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92F-3298-4FD8-A421-B6DA9998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081-2C74-4592-92F2-471E8B8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637-22F5-413B-8682-013C5E58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6F0-CC16-4D6C-BDAE-E6007097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A093-3E2C-4B78-BCE7-2BE39C0D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E9FA-2733-469D-9C28-95D3E624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7730-A0D2-425D-82CD-19648C34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C1F1-CA7D-47C4-AB9E-E5093709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5799-670C-4ED2-A1DD-A35DB32B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11FB-AC9B-4E10-A984-588DE6D5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0854-ACEC-496A-B7FE-05F8DFE6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E59-EAC5-4BD2-A047-47070B48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34E6-77D9-4E2B-8AE3-082AA54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FE7B-152F-4E52-90BA-B9C1AAC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07DB-9B19-4DF8-9B25-1956D88F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1031-74EC-4BC5-A45C-E55C314B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6219-92AD-448A-B3CE-924333CB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4F6-2F41-4F4B-89C6-F7760B60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260-F69A-4CB8-B50A-F3F04BF4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AA1-A07C-49FE-B7FC-71A3E1B6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0F6-7027-45BC-9B8F-14F275EB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BF1-5786-4A0E-B301-BA7FE27E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DFC-35ED-4245-8221-94D62C84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120-DE7B-42EB-871A-E59CF6C7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0457-53C0-4E6E-A3BA-60BA4FF783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CD12-0FD4-4B46-895B-5980D7531D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328320"/>
            <a:ext cx="779292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ngsana New"/>
              </a:rPr>
              <a:t>การขับเคลื่อนการดำเนินงานคณะกรรมการหมู่บ้าน </a:t>
            </a:r>
            <a:r>
              <a:rPr b="1" lang="en-US" sz="6000" spc="-1" strike="noStrike">
                <a:solidFill>
                  <a:srgbClr val="333399"/>
                </a:solidFill>
                <a:latin typeface="Angsana New"/>
              </a:rPr>
              <a:t>(</a:t>
            </a:r>
            <a:r>
              <a:rPr b="1" lang="hi-IN" sz="6000" spc="-1" strike="noStrike">
                <a:solidFill>
                  <a:srgbClr val="333399"/>
                </a:solidFill>
                <a:latin typeface="Angsana New"/>
              </a:rPr>
              <a:t>กม</a:t>
            </a:r>
            <a:r>
              <a:rPr b="1" lang="en-US" sz="6000" spc="-1" strike="noStrike">
                <a:solidFill>
                  <a:srgbClr val="333399"/>
                </a:solidFill>
                <a:latin typeface="Angsana New"/>
              </a:rPr>
              <a:t>.)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35164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000066"/>
                </a:solidFill>
                <a:uFillTx/>
                <a:latin typeface="Angsana New"/>
              </a:rPr>
              <a:t>ความเป็นมา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	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กรมการปกครอง ให้จังหวัด อำเภอ ดำเนินการจัดตั้งคณะกรรมการหมู่บ้าน ตาม พ</a:t>
            </a: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.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ร</a:t>
            </a: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.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บ</a:t>
            </a: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.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ลักษณะปกครองท้องที่ </a:t>
            </a: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(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ฉบับที่ </a:t>
            </a: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11)                 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พ</a:t>
            </a: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.</a:t>
            </a: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ศ</a:t>
            </a: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. 255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309240"/>
            <a:ext cx="779292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ngsana New"/>
              </a:rPr>
              <a:t>การขับเคลื่อนการดำเนินงานคณะกรรมการหมู่บ้าน </a:t>
            </a:r>
            <a:r>
              <a:rPr b="1" lang="en-US" sz="6000" spc="-1" strike="noStrike">
                <a:solidFill>
                  <a:srgbClr val="333399"/>
                </a:solidFill>
                <a:latin typeface="Angsana New"/>
              </a:rPr>
              <a:t>(</a:t>
            </a:r>
            <a:r>
              <a:rPr b="1" lang="hi-IN" sz="6000" spc="-1" strike="noStrike">
                <a:solidFill>
                  <a:srgbClr val="333399"/>
                </a:solidFill>
                <a:latin typeface="Angsana New"/>
              </a:rPr>
              <a:t>กม</a:t>
            </a:r>
            <a:r>
              <a:rPr b="1" lang="en-US" sz="6000" spc="-1" strike="noStrike">
                <a:solidFill>
                  <a:srgbClr val="333399"/>
                </a:solidFill>
                <a:latin typeface="Angsana New"/>
              </a:rPr>
              <a:t>.)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1360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</a:rPr>
              <a:t>      </a:t>
            </a:r>
            <a:r>
              <a:rPr b="1" lang="th-TH" sz="4400" spc="-1" strike="noStrike">
                <a:solidFill>
                  <a:srgbClr val="000066"/>
                </a:solidFill>
                <a:latin typeface="Angsana New"/>
              </a:rPr>
              <a:t>จังหวัดเชียงใหม่ มีหมู่บ้าน จำนวน </a:t>
            </a:r>
            <a:r>
              <a:rPr b="1" lang="th-TH" sz="4400" spc="-1" strike="noStrike">
                <a:solidFill>
                  <a:srgbClr val="000066"/>
                </a:solidFill>
                <a:latin typeface="Angsana New"/>
              </a:rPr>
              <a:t>2,066 </a:t>
            </a:r>
            <a:r>
              <a:rPr b="1" lang="th-TH" sz="4400" spc="-1" strike="noStrike">
                <a:solidFill>
                  <a:srgbClr val="000066"/>
                </a:solidFill>
                <a:latin typeface="Angsana New"/>
              </a:rPr>
              <a:t>หมู่บ้าน เป็นหมู่บ้าน อพป</a:t>
            </a:r>
            <a:r>
              <a:rPr b="1" lang="th-TH" sz="4400" spc="-1" strike="noStrike">
                <a:solidFill>
                  <a:srgbClr val="000066"/>
                </a:solidFill>
                <a:latin typeface="Angsana New"/>
              </a:rPr>
              <a:t>. 285 </a:t>
            </a:r>
            <a:r>
              <a:rPr b="1" lang="th-TH" sz="4400" spc="-1" strike="noStrike">
                <a:solidFill>
                  <a:srgbClr val="000066"/>
                </a:solidFill>
                <a:latin typeface="Angsana New"/>
              </a:rPr>
              <a:t>หมู่บ้าน และหมู่บ้านในเขตเทศบาลเมือง </a:t>
            </a:r>
            <a:r>
              <a:rPr b="1" lang="th-TH" sz="4400" spc="-1" strike="noStrike">
                <a:solidFill>
                  <a:srgbClr val="000066"/>
                </a:solidFill>
                <a:latin typeface="Angsana New"/>
              </a:rPr>
              <a:t>16 </a:t>
            </a:r>
            <a:r>
              <a:rPr b="1" lang="th-TH" sz="4400" spc="-1" strike="noStrike">
                <a:solidFill>
                  <a:srgbClr val="000066"/>
                </a:solidFill>
                <a:latin typeface="Angsana New"/>
              </a:rPr>
              <a:t>หมู่บ้าน  จึงมีหมู่บ้านที่จะต้องดำเนินการจัดตั้งคณะกรรมการหมู่บ้าน จำนวน          </a:t>
            </a:r>
            <a:r>
              <a:rPr b="1" lang="th-TH" sz="4400" spc="-1" strike="noStrike">
                <a:solidFill>
                  <a:srgbClr val="000066"/>
                </a:solidFill>
                <a:latin typeface="Angsana New"/>
              </a:rPr>
              <a:t>1,765 </a:t>
            </a:r>
            <a:r>
              <a:rPr b="1" lang="th-TH" sz="4400" spc="-1" strike="noStrike">
                <a:solidFill>
                  <a:srgbClr val="000066"/>
                </a:solidFill>
                <a:latin typeface="Angsana New"/>
              </a:rPr>
              <a:t>หมู่บ้าน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6440" y="309240"/>
            <a:ext cx="779292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ngsana New"/>
              </a:rPr>
              <a:t>การขับเคลื่อนการดำเนินงานคณะกรรมการหมู่บ้าน </a:t>
            </a:r>
            <a:r>
              <a:rPr b="1" lang="en-US" sz="6000" spc="-1" strike="noStrike">
                <a:solidFill>
                  <a:srgbClr val="333399"/>
                </a:solidFill>
                <a:latin typeface="Angsana New"/>
              </a:rPr>
              <a:t>(</a:t>
            </a:r>
            <a:r>
              <a:rPr b="1" lang="hi-IN" sz="6000" spc="-1" strike="noStrike">
                <a:solidFill>
                  <a:srgbClr val="333399"/>
                </a:solidFill>
                <a:latin typeface="Angsana New"/>
              </a:rPr>
              <a:t>กม</a:t>
            </a:r>
            <a:r>
              <a:rPr b="1" lang="en-US" sz="6000" spc="-1" strike="noStrike">
                <a:solidFill>
                  <a:srgbClr val="333399"/>
                </a:solidFill>
                <a:latin typeface="Angsana New"/>
              </a:rPr>
              <a:t>.)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42472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ngsana New"/>
              </a:rPr>
              <a:t>	</a:t>
            </a:r>
            <a:r>
              <a:rPr b="1" lang="hi-IN" sz="4000" spc="-1" strike="noStrike">
                <a:solidFill>
                  <a:srgbClr val="000066"/>
                </a:solidFill>
                <a:latin typeface="Angsana New"/>
              </a:rPr>
              <a:t>จังหวัดให้ความสำคัญและสนับสนุนการดำเนินงาน         ของคณะกรรมการหมู่บ้าน  โดยให้คณะกรรมการหมู่บ้าน ขับเคลื่อนยุทธศาสตร์จังหวัดและนโยบายของรัฐบาลในพื้นที่  จึงขอให้ส่วนราชการ หน่วยงาน ที่มีภารกิจ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</a:rPr>
              <a:t>/</a:t>
            </a:r>
            <a:r>
              <a:rPr b="1" lang="hi-IN" sz="4000" spc="-1" strike="noStrike">
                <a:solidFill>
                  <a:srgbClr val="000066"/>
                </a:solidFill>
                <a:latin typeface="Angsana New"/>
              </a:rPr>
              <a:t>กิจกรรม ในระดับหมู่บ้าน  ใช้คณะกรรมการหมู่บ้านเป็นองค์กรดำเนินงาน               ในระดับหมู่บ้าน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309240"/>
            <a:ext cx="779292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ngsana New"/>
              </a:rPr>
              <a:t>การขับเคลื่อนการดำเนินงานคณะกรรมการหมู่บ้าน </a:t>
            </a:r>
            <a:r>
              <a:rPr b="1" lang="en-US" sz="6000" spc="-1" strike="noStrike">
                <a:solidFill>
                  <a:srgbClr val="333399"/>
                </a:solidFill>
                <a:latin typeface="Angsana New"/>
              </a:rPr>
              <a:t>(</a:t>
            </a:r>
            <a:r>
              <a:rPr b="1" lang="hi-IN" sz="6000" spc="-1" strike="noStrike">
                <a:solidFill>
                  <a:srgbClr val="333399"/>
                </a:solidFill>
                <a:latin typeface="Angsana New"/>
              </a:rPr>
              <a:t>กม</a:t>
            </a:r>
            <a:r>
              <a:rPr b="1" lang="en-US" sz="6000" spc="-1" strike="noStrike">
                <a:solidFill>
                  <a:srgbClr val="333399"/>
                </a:solidFill>
                <a:latin typeface="Angsana New"/>
              </a:rPr>
              <a:t>.)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80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ngsana New"/>
              </a:rPr>
              <a:t>ระดับอำเภอ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ngsana New"/>
              </a:rPr>
              <a:t>	</a:t>
            </a:r>
            <a:r>
              <a:rPr b="1" lang="hi-IN" sz="4000" spc="-1" strike="noStrike">
                <a:solidFill>
                  <a:srgbClr val="000066"/>
                </a:solidFill>
                <a:latin typeface="Angsana New"/>
              </a:rPr>
              <a:t>ให้นายอำเภอ ให้ส่วนราชการ หน่วยงานของรัฐ และองค์กรปกครองส่วนท้องถิ่น   ใช้คณะกรรมการหมู่บ้าน         เป็นองค์กรขับเคลื่อนภารกิจ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</a:rPr>
              <a:t>/</a:t>
            </a:r>
            <a:r>
              <a:rPr b="1" lang="hi-IN" sz="4000" spc="-1" strike="noStrike">
                <a:solidFill>
                  <a:srgbClr val="000066"/>
                </a:solidFill>
                <a:latin typeface="Angsana New"/>
              </a:rPr>
              <a:t>กิจกรรมในระดับหมู่บ้าน ตลอดจนให้ความรู้ด้านต่าง ๆ ที่เกี่ยวข้องกับคณะกรรมการหมู่บ้าน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7:45:54Z</dcterms:created>
  <dc:creator>BeeGee</dc:creator>
  <dc:description/>
  <dc:language>en-US</dc:language>
  <cp:lastModifiedBy>ponglikit</cp:lastModifiedBy>
  <dcterms:modified xsi:type="dcterms:W3CDTF">2009-03-27T20:48:41Z</dcterms:modified>
  <cp:revision>443</cp:revision>
  <dc:subject/>
  <dc:title>ภาพนิ่ง 1</dc:title>
</cp:coreProperties>
</file>