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A608-0378-46DF-B2AA-DDAC4D5D7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D45E-2E52-4225-A120-4E6AF66E0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F05A-AA54-465D-A516-8FEDAB46D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AE32-B991-4B37-89BF-98245E442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60D4-95A1-4325-9A85-D3706920B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9EA9-DA32-4524-992C-EA058458E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9D1B-1534-4700-8926-7E8D18D86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B849-1EFC-4FCC-851F-B65C4482B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2E36-825F-478A-B963-65F8F94A3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093C-A4F4-4804-A8C1-A299B100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0A85-8415-4BD8-ACBD-57185314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A4B7-9746-485A-9473-4AF3E306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21A44-ACB4-4546-9F3C-8ED345B5A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44360"/>
            <a:ext cx="8351640" cy="12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100" spc="-1" strike="noStrike" u="sng">
                <a:solidFill>
                  <a:srgbClr val="000000"/>
                </a:solidFill>
                <a:uFillTx/>
                <a:latin typeface="Arial"/>
              </a:rPr>
              <a:t>งานพิธีจังหวัดเชียงใหม่</a:t>
            </a:r>
            <a:br>
              <a:rPr sz="4100"/>
            </a:br>
            <a:r>
              <a:rPr b="0" lang="hi-IN" sz="4000" spc="-1" strike="noStrike">
                <a:solidFill>
                  <a:srgbClr val="000000"/>
                </a:solidFill>
                <a:latin typeface="Arial"/>
              </a:rPr>
              <a:t>ณ  หอประชุมมหาวิทยาลัยเชียงใหม่  ดังนี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4000" y="1484280"/>
            <a:ext cx="8640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lang="th-TH" sz="3200" spc="-1" strike="noStrike" u="sng">
                <a:solidFill>
                  <a:srgbClr val="000000"/>
                </a:solidFill>
                <a:uFillTx/>
                <a:latin typeface="Arial"/>
              </a:rPr>
              <a:t>วันที่  </a:t>
            </a:r>
            <a:r>
              <a:rPr b="1" lang="th-TH" sz="3200" spc="-1" strike="noStrike" u="sng">
                <a:solidFill>
                  <a:srgbClr val="000000"/>
                </a:solidFill>
                <a:uFillTx/>
                <a:latin typeface="Arial"/>
              </a:rPr>
              <a:t>31  </a:t>
            </a:r>
            <a:r>
              <a:rPr b="1" lang="th-TH" sz="3200" spc="-1" strike="noStrike" u="sng">
                <a:solidFill>
                  <a:srgbClr val="000000"/>
                </a:solidFill>
                <a:uFillTx/>
                <a:latin typeface="Arial"/>
              </a:rPr>
              <a:t>มีนาคม  </a:t>
            </a:r>
            <a:r>
              <a:rPr b="1" lang="th-TH" sz="3200" spc="-1" strike="noStrike" u="sng">
                <a:solidFill>
                  <a:srgbClr val="000000"/>
                </a:solidFill>
                <a:uFillTx/>
                <a:latin typeface="Arial"/>
              </a:rPr>
              <a:t>2552  </a:t>
            </a:r>
            <a:r>
              <a:rPr b="1" lang="th-TH" sz="3200" spc="-1" strike="noStrike" u="sng">
                <a:solidFill>
                  <a:srgbClr val="000000"/>
                </a:solidFill>
                <a:uFillTx/>
                <a:latin typeface="Arial"/>
              </a:rPr>
              <a:t>เวลา  </a:t>
            </a:r>
            <a:r>
              <a:rPr b="1" lang="th-TH" sz="3200" spc="-1" strike="noStrike" u="sng">
                <a:solidFill>
                  <a:srgbClr val="000000"/>
                </a:solidFill>
                <a:uFillTx/>
                <a:latin typeface="Arial"/>
              </a:rPr>
              <a:t>09.00  </a:t>
            </a:r>
            <a:r>
              <a:rPr b="1" lang="th-TH" sz="3200" spc="-1" strike="noStrike" u="sng">
                <a:solidFill>
                  <a:srgbClr val="000000"/>
                </a:solidFill>
                <a:uFillTx/>
                <a:latin typeface="Arial"/>
              </a:rPr>
              <a:t>น</a:t>
            </a:r>
            <a:r>
              <a:rPr b="1" lang="th-TH" sz="32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พิธีวันที่ระลึกพระบาทสมเด็จพระนั่งเกล้าเจ้าอยู่หัวพระมหาเจษฎาราชเจ้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และการจัดงานวันข้าราชการพลเรือน  ประจำปี 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2552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lang="th-TH" sz="3200" spc="-1" strike="noStrike" u="sng">
                <a:solidFill>
                  <a:srgbClr val="000000"/>
                </a:solidFill>
                <a:uFillTx/>
                <a:latin typeface="Arial"/>
              </a:rPr>
              <a:t>วันที่  </a:t>
            </a:r>
            <a:r>
              <a:rPr b="1" lang="th-TH" sz="3200" spc="-1" strike="noStrike" u="sng">
                <a:solidFill>
                  <a:srgbClr val="000000"/>
                </a:solidFill>
                <a:uFillTx/>
                <a:latin typeface="Arial"/>
              </a:rPr>
              <a:t>2  </a:t>
            </a:r>
            <a:r>
              <a:rPr b="1" lang="th-TH" sz="3200" spc="-1" strike="noStrike" u="sng">
                <a:solidFill>
                  <a:srgbClr val="000000"/>
                </a:solidFill>
                <a:uFillTx/>
                <a:latin typeface="Arial"/>
              </a:rPr>
              <a:t>เมษายน  </a:t>
            </a:r>
            <a:r>
              <a:rPr b="1" lang="th-TH" sz="3200" spc="-1" strike="noStrike" u="sng">
                <a:solidFill>
                  <a:srgbClr val="000000"/>
                </a:solidFill>
                <a:uFillTx/>
                <a:latin typeface="Arial"/>
              </a:rPr>
              <a:t>2552  </a:t>
            </a:r>
            <a:r>
              <a:rPr b="1" lang="th-TH" sz="3200" spc="-1" strike="noStrike" u="sng">
                <a:solidFill>
                  <a:srgbClr val="000000"/>
                </a:solidFill>
                <a:uFillTx/>
                <a:latin typeface="Arial"/>
              </a:rPr>
              <a:t>เวลา  </a:t>
            </a:r>
            <a:r>
              <a:rPr b="1" lang="th-TH" sz="3200" spc="-1" strike="noStrike" u="sng">
                <a:solidFill>
                  <a:srgbClr val="000000"/>
                </a:solidFill>
                <a:uFillTx/>
                <a:latin typeface="Arial"/>
              </a:rPr>
              <a:t>09.00  </a:t>
            </a:r>
            <a:r>
              <a:rPr b="1" lang="th-TH" sz="3200" spc="-1" strike="noStrike" u="sng">
                <a:solidFill>
                  <a:srgbClr val="000000"/>
                </a:solidFill>
                <a:uFillTx/>
                <a:latin typeface="Arial"/>
              </a:rPr>
              <a:t>น</a:t>
            </a:r>
            <a:r>
              <a:rPr b="1" lang="th-TH" sz="32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พิธีเฉลิมพระเกียรติเนื่องในวโรกาสวันพระราชสมภ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สมเด็จพระเทพรัตนราชสุดาฯ  สยามบรมราชกุมาร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1" lang="th-TH" sz="3200" spc="-1" strike="noStrike" u="sng">
                <a:solidFill>
                  <a:srgbClr val="000000"/>
                </a:solidFill>
                <a:uFillTx/>
                <a:latin typeface="Arial"/>
              </a:rPr>
              <a:t>วันที่  </a:t>
            </a:r>
            <a:r>
              <a:rPr b="1" lang="th-TH" sz="3200" spc="-1" strike="noStrike" u="sng">
                <a:solidFill>
                  <a:srgbClr val="000000"/>
                </a:solidFill>
                <a:uFillTx/>
                <a:latin typeface="Arial"/>
              </a:rPr>
              <a:t>6  </a:t>
            </a:r>
            <a:r>
              <a:rPr b="1" lang="th-TH" sz="3200" spc="-1" strike="noStrike" u="sng">
                <a:solidFill>
                  <a:srgbClr val="000000"/>
                </a:solidFill>
                <a:uFillTx/>
                <a:latin typeface="Arial"/>
              </a:rPr>
              <a:t>เมษายน  </a:t>
            </a:r>
            <a:r>
              <a:rPr b="1" lang="th-TH" sz="3200" spc="-1" strike="noStrike" u="sng">
                <a:solidFill>
                  <a:srgbClr val="000000"/>
                </a:solidFill>
                <a:uFillTx/>
                <a:latin typeface="Arial"/>
              </a:rPr>
              <a:t>2552  </a:t>
            </a:r>
            <a:r>
              <a:rPr b="1" lang="th-TH" sz="3200" spc="-1" strike="noStrike" u="sng">
                <a:solidFill>
                  <a:srgbClr val="000000"/>
                </a:solidFill>
                <a:uFillTx/>
                <a:latin typeface="Arial"/>
              </a:rPr>
              <a:t>เวลา  </a:t>
            </a:r>
            <a:r>
              <a:rPr b="1" lang="th-TH" sz="3200" spc="-1" strike="noStrike" u="sng">
                <a:solidFill>
                  <a:srgbClr val="000000"/>
                </a:solidFill>
                <a:uFillTx/>
                <a:latin typeface="Arial"/>
              </a:rPr>
              <a:t>09.00  </a:t>
            </a:r>
            <a:r>
              <a:rPr b="1" lang="th-TH" sz="3200" spc="-1" strike="noStrike" u="sng">
                <a:solidFill>
                  <a:srgbClr val="000000"/>
                </a:solidFill>
                <a:uFillTx/>
                <a:latin typeface="Arial"/>
              </a:rPr>
              <a:t>น</a:t>
            </a:r>
            <a:r>
              <a:rPr b="1" lang="th-TH" sz="32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พิธีวันพระบาทสมเด็จพระพุทธยอดฟ้าจุฬาโลกมหาราช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และวันที่ระลึกมหาจักรีบรมราชวงศ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563400"/>
            <a:ext cx="932508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500" spc="-1" strike="noStrike">
                <a:solidFill>
                  <a:srgbClr val="000000"/>
                </a:solidFill>
                <a:latin typeface="Arial"/>
              </a:rPr>
              <a:t>พิธีวันที่ระลึกพระบาทสมเด็จพระนั่งเกล้าเจ้าอยู่หัวพระมหาเจษฎาราชเจ้า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3500"/>
            </a:br>
            <a:r>
              <a:rPr b="1" lang="th-TH" sz="3500" spc="-1" strike="noStrike">
                <a:solidFill>
                  <a:srgbClr val="000000"/>
                </a:solidFill>
                <a:latin typeface="Arial"/>
              </a:rPr>
              <a:t>และการจัดงานวันข้าราชการพลเรือน  ประจำปี  </a:t>
            </a:r>
            <a:r>
              <a:rPr b="1" lang="th-TH" sz="3500" spc="-1" strike="noStrike">
                <a:solidFill>
                  <a:srgbClr val="000000"/>
                </a:solidFill>
                <a:latin typeface="Arial"/>
              </a:rPr>
              <a:t>2552   </a:t>
            </a:r>
            <a:br>
              <a:rPr sz="3500"/>
            </a:br>
            <a:r>
              <a:rPr b="1" lang="th-TH" sz="3500" spc="-1" strike="noStrike">
                <a:solidFill>
                  <a:srgbClr val="000000"/>
                </a:solidFill>
                <a:latin typeface="Arial"/>
              </a:rPr>
              <a:t>วันที่  </a:t>
            </a:r>
            <a:r>
              <a:rPr b="1" lang="th-TH" sz="3500" spc="-1" strike="noStrike">
                <a:solidFill>
                  <a:srgbClr val="000000"/>
                </a:solidFill>
                <a:latin typeface="Arial"/>
              </a:rPr>
              <a:t>31  </a:t>
            </a:r>
            <a:r>
              <a:rPr b="1" lang="th-TH" sz="3500" spc="-1" strike="noStrike">
                <a:solidFill>
                  <a:srgbClr val="000000"/>
                </a:solidFill>
                <a:latin typeface="Arial"/>
              </a:rPr>
              <a:t>มีนาคม  </a:t>
            </a:r>
            <a:r>
              <a:rPr b="1" lang="th-TH" sz="3500" spc="-1" strike="noStrike">
                <a:solidFill>
                  <a:srgbClr val="000000"/>
                </a:solidFill>
                <a:latin typeface="Arial"/>
              </a:rPr>
              <a:t>2552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-468720" y="2015640"/>
            <a:ext cx="961236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0" algn="ctr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300" spc="-1" strike="noStrike" u="sng">
                <a:solidFill>
                  <a:srgbClr val="000000"/>
                </a:solidFill>
                <a:uFillTx/>
                <a:latin typeface="Angsana News"/>
              </a:rPr>
              <a:t>กำหนดการ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300" spc="-1" strike="noStrike">
                <a:solidFill>
                  <a:srgbClr val="000000"/>
                </a:solidFill>
                <a:latin typeface="Angsana News"/>
              </a:rPr>
              <a:t>         </a:t>
            </a:r>
            <a:r>
              <a:rPr b="0" lang="th-TH" sz="3300" spc="-1" strike="noStrike">
                <a:solidFill>
                  <a:srgbClr val="000000"/>
                </a:solidFill>
                <a:latin typeface="Angsana News"/>
              </a:rPr>
              <a:t>พร้อม เวลา </a:t>
            </a:r>
            <a:r>
              <a:rPr b="0" lang="th-TH" sz="3300" spc="-1" strike="noStrike">
                <a:solidFill>
                  <a:srgbClr val="000000"/>
                </a:solidFill>
                <a:latin typeface="Angsana News"/>
              </a:rPr>
              <a:t>08.15 </a:t>
            </a:r>
            <a:r>
              <a:rPr b="0" lang="th-TH" sz="3300" spc="-1" strike="noStrike">
                <a:solidFill>
                  <a:srgbClr val="000000"/>
                </a:solidFill>
                <a:latin typeface="Angsana News"/>
              </a:rPr>
              <a:t>น</a:t>
            </a:r>
            <a:r>
              <a:rPr b="0" lang="th-TH" sz="3300" spc="-1" strike="noStrike">
                <a:solidFill>
                  <a:srgbClr val="000000"/>
                </a:solidFill>
                <a:latin typeface="Angsana News"/>
              </a:rPr>
              <a:t>.   </a:t>
            </a:r>
            <a:r>
              <a:rPr b="0" lang="th-TH" sz="3300" spc="-1" strike="noStrike">
                <a:solidFill>
                  <a:srgbClr val="000000"/>
                </a:solidFill>
                <a:latin typeface="Angsana News"/>
              </a:rPr>
              <a:t>เริ่มพิธี  </a:t>
            </a:r>
            <a:r>
              <a:rPr b="0" lang="th-TH" sz="3300" spc="-1" strike="noStrike">
                <a:solidFill>
                  <a:srgbClr val="000000"/>
                </a:solidFill>
                <a:latin typeface="Angsana News"/>
              </a:rPr>
              <a:t>09.00 </a:t>
            </a:r>
            <a:r>
              <a:rPr b="0" lang="th-TH" sz="3300" spc="-1" strike="noStrike">
                <a:solidFill>
                  <a:srgbClr val="000000"/>
                </a:solidFill>
                <a:latin typeface="Angsana News"/>
              </a:rPr>
              <a:t>น</a:t>
            </a:r>
            <a:r>
              <a:rPr b="0" lang="th-TH" sz="3300" spc="-1" strike="noStrike">
                <a:solidFill>
                  <a:srgbClr val="000000"/>
                </a:solidFill>
                <a:latin typeface="Angsana News"/>
              </a:rPr>
              <a:t>.  </a:t>
            </a:r>
            <a:r>
              <a:rPr b="1" lang="th-TH" sz="3300" spc="-1" strike="noStrike" u="sng">
                <a:solidFill>
                  <a:srgbClr val="000000"/>
                </a:solidFill>
                <a:uFillTx/>
                <a:latin typeface="Angsana News"/>
              </a:rPr>
              <a:t>ณ หอประชุมมหาวิทยาลัยเชียงใหม่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300" spc="-1" strike="noStrike">
                <a:solidFill>
                  <a:srgbClr val="000000"/>
                </a:solidFill>
                <a:latin typeface="Angsana News"/>
              </a:rPr>
              <a:t>	</a:t>
            </a:r>
            <a:r>
              <a:rPr b="1" lang="th-TH" sz="3300" spc="-1" strike="noStrike" u="sng">
                <a:solidFill>
                  <a:srgbClr val="000000"/>
                </a:solidFill>
                <a:uFillTx/>
                <a:latin typeface="Angsana News"/>
              </a:rPr>
              <a:t>การแต่งกาย</a:t>
            </a:r>
            <a:r>
              <a:rPr b="0" lang="th-TH" sz="3300" spc="-1" strike="noStrike">
                <a:solidFill>
                  <a:srgbClr val="000000"/>
                </a:solidFill>
                <a:latin typeface="Angsana News"/>
              </a:rPr>
              <a:t> 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300" spc="-1" strike="noStrike">
                <a:solidFill>
                  <a:srgbClr val="000000"/>
                </a:solidFill>
                <a:latin typeface="Angsana News"/>
              </a:rPr>
              <a:t>	</a:t>
            </a: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ข้าราชการพลเรือน </a:t>
            </a: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เครื่องแบบปกติขาว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ทหาร ตำรวจ  </a:t>
            </a: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เครื่องแบบปกติขาว  คาดกระบี่  ถุงมือ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บุคคลทั่วไป </a:t>
            </a: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สุภาพบุรุษ </a:t>
            </a: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ชุดสากลนิยม  ชุดไทย  ชุดพระราชทาน 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หรือเครื่องแบบตามสังกัด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สุภาพสตรี </a:t>
            </a: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ชุดพื้นเมืองห่มสไบ  หรือเครื่องแบบตามสังกัด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300" spc="-1" strike="noStrike">
                <a:solidFill>
                  <a:srgbClr val="000000"/>
                </a:solidFill>
                <a:latin typeface="Angsana News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360" y="836280"/>
            <a:ext cx="9144000" cy="36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การจัดงานวันข้าราชการพลเรือน ประจำปี </a:t>
            </a: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2552 </a:t>
            </a:r>
            <a:br>
              <a:rPr sz="4400"/>
            </a:b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จังหวัดเชียงใหม่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ในวันอังคารที่  </a:t>
            </a: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31  </a:t>
            </a: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มีนาคม </a:t>
            </a: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2552  </a:t>
            </a: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เวลาประมาณ </a:t>
            </a: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09.30 </a:t>
            </a: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น</a:t>
            </a: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400"/>
            </a:b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ณ  หอประชุมมหาวิทยาลัยเชียงใหม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560" y="1989000"/>
            <a:ext cx="8893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060880"/>
            <a:ext cx="9144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00"/>
                </a:solidFill>
                <a:latin typeface="Arial"/>
              </a:rPr>
              <a:t>หมายเหตุ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th-TH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th-TH" sz="3000" spc="-1" strike="noStrike" u="sng">
                <a:solidFill>
                  <a:srgbClr val="000000"/>
                </a:solidFill>
                <a:uFillTx/>
                <a:latin typeface="Arial"/>
              </a:rPr>
              <a:t>ข้าราชการ</a:t>
            </a:r>
            <a:r>
              <a:rPr b="1" lang="th-TH" sz="3000" spc="-1" strike="noStrike" u="sng">
                <a:solidFill>
                  <a:srgbClr val="000000"/>
                </a:solidFill>
                <a:uFillTx/>
                <a:latin typeface="Arial"/>
              </a:rPr>
              <a:t>/</a:t>
            </a:r>
            <a:r>
              <a:rPr b="1" lang="th-TH" sz="3000" spc="-1" strike="noStrike" u="sng">
                <a:solidFill>
                  <a:srgbClr val="000000"/>
                </a:solidFill>
                <a:uFillTx/>
                <a:latin typeface="Arial"/>
              </a:rPr>
              <a:t>ลูกจ้างประจำ ผู้เข้ารับเกียรติบัตร แต่งกาย เครื่องแบบสีกากี แขนยา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400" spc="-1" strike="noStrike">
                <a:solidFill>
                  <a:srgbClr val="000000"/>
                </a:solidFill>
                <a:latin typeface="Arial"/>
              </a:rPr>
              <a:t>จังหวัดเชียงใหม่ดำเนินการคัดเลือกข้าราชการและลูกจ้างประจำเพื่อรับรางวัลข้าราชการพลเรือนดีเด่นโดยแบ่งรางวัลเป็น  </a:t>
            </a:r>
            <a:r>
              <a:rPr b="1" lang="th-TH" sz="3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th-TH" sz="3400" spc="-1" strike="noStrike">
                <a:solidFill>
                  <a:srgbClr val="000000"/>
                </a:solidFill>
                <a:latin typeface="Arial"/>
              </a:rPr>
              <a:t>ประเภท ดังนี้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58640" indent="-45864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gsana New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s"/>
                <a:cs typeface="Angsana News"/>
              </a:rPr>
              <a:t>รางวัลข้าราชการพลเรือนและลูกจ้างประจำดีเด่น จังหวัดเชียงใหม่ ประจำปี </a:t>
            </a:r>
            <a:r>
              <a:rPr b="1" lang="th-TH" sz="2800" spc="-1" strike="noStrike">
                <a:solidFill>
                  <a:srgbClr val="000000"/>
                </a:solidFill>
                <a:latin typeface="Angsana News"/>
                <a:ea typeface="Angsana News"/>
              </a:rPr>
              <a:t>2551</a:t>
            </a:r>
            <a:r>
              <a:rPr b="0" lang="th-TH" sz="2800" spc="-1" strike="noStrike">
                <a:solidFill>
                  <a:srgbClr val="000000"/>
                </a:solidFill>
                <a:latin typeface="Angsana News"/>
                <a:ea typeface="Angsana News"/>
              </a:rPr>
              <a:t>  </a:t>
            </a:r>
            <a:r>
              <a:rPr b="1" lang="th-TH" sz="2800" spc="-1" strike="noStrike">
                <a:solidFill>
                  <a:srgbClr val="000000"/>
                </a:solidFill>
                <a:latin typeface="Angsana News"/>
                <a:ea typeface="Angsana News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Angsana News"/>
                <a:cs typeface="Angsana News"/>
              </a:rPr>
              <a:t>จำนวน  </a:t>
            </a:r>
            <a:r>
              <a:rPr b="1" lang="th-TH" sz="2800" spc="-1" strike="noStrike">
                <a:solidFill>
                  <a:srgbClr val="000000"/>
                </a:solidFill>
                <a:latin typeface="Angsana News"/>
                <a:ea typeface="Angsana News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ngsana News"/>
                <a:ea typeface="Angsana News"/>
              </a:rPr>
              <a:t>  </a:t>
            </a:r>
            <a:r>
              <a:rPr b="1" lang="th-TH" sz="2800" spc="-1" strike="noStrike">
                <a:solidFill>
                  <a:srgbClr val="000000"/>
                </a:solidFill>
                <a:latin typeface="Angsana News"/>
                <a:cs typeface="Angsana News"/>
              </a:rPr>
              <a:t>ราย</a:t>
            </a:r>
            <a:r>
              <a:rPr b="0" lang="th-TH" sz="2800" spc="-1" strike="noStrike">
                <a:solidFill>
                  <a:srgbClr val="000000"/>
                </a:solidFill>
                <a:latin typeface="Angsana News"/>
                <a:ea typeface="Angsana News"/>
              </a:rPr>
              <a:t>  โดยได้รับเข็มเชิดชูเกียรติ </a:t>
            </a:r>
            <a:r>
              <a:rPr b="0" lang="th-TH" sz="2800" spc="-1" strike="noStrike">
                <a:solidFill>
                  <a:srgbClr val="000000"/>
                </a:solidFill>
                <a:latin typeface="Angsana News"/>
                <a:ea typeface="Angsana News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Angsana News"/>
                <a:cs typeface="Angsana News"/>
              </a:rPr>
              <a:t>ครุฑทองคำ</a:t>
            </a:r>
            <a:r>
              <a:rPr b="0" lang="th-TH" sz="2800" spc="-1" strike="noStrike">
                <a:solidFill>
                  <a:srgbClr val="000000"/>
                </a:solidFill>
                <a:latin typeface="Angsana News"/>
                <a:ea typeface="Angsana News"/>
              </a:rPr>
              <a:t>) </a:t>
            </a:r>
            <a:r>
              <a:rPr b="0" lang="th-TH" sz="2800" spc="-1" strike="noStrike">
                <a:solidFill>
                  <a:srgbClr val="000000"/>
                </a:solidFill>
                <a:latin typeface="Angsana News"/>
                <a:cs typeface="Angsana News"/>
              </a:rPr>
              <a:t>เกียรติบัตรยกย่องเชิดชูเกียรติ  และบันทึกประวัติในหนังสือที่ระลึกข้าราชการพลเรือนดีเด่น ประจำปี  </a:t>
            </a:r>
            <a:r>
              <a:rPr b="0" lang="th-TH" sz="2800" spc="-1" strike="noStrike">
                <a:solidFill>
                  <a:srgbClr val="000000"/>
                </a:solidFill>
                <a:latin typeface="Angsana News"/>
                <a:ea typeface="Angsana News"/>
              </a:rPr>
              <a:t>2552               </a:t>
            </a:r>
            <a:r>
              <a:rPr b="0" lang="th-TH" sz="2800" spc="-1" strike="noStrike">
                <a:solidFill>
                  <a:srgbClr val="000000"/>
                </a:solidFill>
                <a:latin typeface="Angsana News"/>
                <a:cs typeface="Angsana News"/>
              </a:rPr>
              <a:t>โดยมีกำหนดเดินทางเข้ารับรางวัล  ในวันจันทร์ที่  </a:t>
            </a:r>
            <a:r>
              <a:rPr b="0" lang="th-TH" sz="2800" spc="-1" strike="noStrike">
                <a:solidFill>
                  <a:srgbClr val="000000"/>
                </a:solidFill>
                <a:latin typeface="Angsana News"/>
                <a:ea typeface="Angsana News"/>
              </a:rPr>
              <a:t>30 </a:t>
            </a:r>
            <a:r>
              <a:rPr b="0" lang="th-TH" sz="2800" spc="-1" strike="noStrike">
                <a:solidFill>
                  <a:srgbClr val="000000"/>
                </a:solidFill>
                <a:latin typeface="Angsana News"/>
                <a:cs typeface="Angsana News"/>
              </a:rPr>
              <a:t>มีนาคม </a:t>
            </a:r>
            <a:r>
              <a:rPr b="0" lang="th-TH" sz="2800" spc="-1" strike="noStrike">
                <a:solidFill>
                  <a:srgbClr val="000000"/>
                </a:solidFill>
                <a:latin typeface="Angsana News"/>
                <a:ea typeface="Angsana News"/>
              </a:rPr>
              <a:t>2552 </a:t>
            </a:r>
            <a:r>
              <a:rPr b="0" lang="th-TH" sz="2800" spc="-1" strike="noStrike">
                <a:solidFill>
                  <a:srgbClr val="000000"/>
                </a:solidFill>
                <a:latin typeface="Angsana News"/>
                <a:cs typeface="Angsana News"/>
              </a:rPr>
              <a:t>ณ   ตึกสันติไมตรี  ทำเนียบรัฐบาล  กรุงเทพมหานคร  ดังนี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นายสุรศักดิ์   เจริญศิริโชติ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   นายอำเภอดอยสะเก็ด  จังหวัด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นายสำราญ   ปัญญา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 ผู้อำนวยการโรงเรียนมิตรมวลชนเชียงใหม่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สำนักงานเขตพื้นที่การศึกษาเชียงใหม่ เขต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นายไกลสน   แตงโสภา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   เจ้าพนักงานเภสัชกรรมชำนาญงา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โรงพยาบาลดอยสะเก็ด  สำนักงานสาธารณสุขจังหวัด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นายวิชาญ   ชัยชมภู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   พนักงานบริการอัดสำเนา  โรงเรียนหอพระ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อำเภอเมืองเชียงใหม่  สำนักงานเขตพื้นที่การศึกษาเชียงใหม่ เขต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th-TH" sz="2800" spc="-1" strike="noStrike">
                <a:solidFill>
                  <a:srgbClr val="000000"/>
                </a:solidFill>
                <a:latin typeface="Angsana News"/>
                <a:ea typeface="Angsana New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772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00"/>
                </a:solidFill>
                <a:latin typeface="Angsana News"/>
                <a:ea typeface="Angsana News"/>
              </a:rPr>
              <a:t>2.   </a:t>
            </a:r>
            <a:r>
              <a:rPr b="1" lang="th-TH" sz="3000" spc="-1" strike="noStrike">
                <a:solidFill>
                  <a:srgbClr val="000000"/>
                </a:solidFill>
                <a:latin typeface="Angsana News"/>
                <a:cs typeface="Angsana News"/>
              </a:rPr>
              <a:t>รางวัลข้าราชการพลเรือนและลูกจ้างประจำผู้มีผลงานดีเด่น จังหวัดเชียงใหม่ ประจำปี </a:t>
            </a:r>
            <a:r>
              <a:rPr b="1" lang="th-TH" sz="3000" spc="-1" strike="noStrike">
                <a:solidFill>
                  <a:srgbClr val="000000"/>
                </a:solidFill>
                <a:latin typeface="Angsana News"/>
                <a:ea typeface="Angsana News"/>
              </a:rPr>
              <a:t>2551  </a:t>
            </a:r>
            <a:r>
              <a:rPr b="1" lang="th-TH" sz="3000" spc="-1" strike="noStrike">
                <a:solidFill>
                  <a:srgbClr val="000000"/>
                </a:solidFill>
                <a:latin typeface="Angsana News"/>
                <a:cs typeface="Angsana News"/>
              </a:rPr>
              <a:t>จำนวน </a:t>
            </a:r>
            <a:r>
              <a:rPr b="1" lang="th-TH" sz="3000" spc="-1" strike="noStrike">
                <a:solidFill>
                  <a:srgbClr val="000000"/>
                </a:solidFill>
                <a:latin typeface="Angsana News"/>
                <a:ea typeface="Angsana News"/>
              </a:rPr>
              <a:t>8</a:t>
            </a:r>
            <a:r>
              <a:rPr b="1" lang="en-US" sz="3000" spc="-1" strike="noStrike">
                <a:solidFill>
                  <a:srgbClr val="000000"/>
                </a:solidFill>
                <a:latin typeface="Angsana News"/>
                <a:ea typeface="Angsana News"/>
              </a:rPr>
              <a:t> </a:t>
            </a:r>
            <a:r>
              <a:rPr b="1" lang="th-TH" sz="3000" spc="-1" strike="noStrike">
                <a:solidFill>
                  <a:srgbClr val="000000"/>
                </a:solidFill>
                <a:latin typeface="Angsana News"/>
                <a:cs typeface="Angsana News"/>
              </a:rPr>
              <a:t>ราย</a:t>
            </a:r>
            <a:r>
              <a:rPr b="0" lang="th-TH" sz="3000" spc="-1" strike="noStrike">
                <a:solidFill>
                  <a:srgbClr val="000000"/>
                </a:solidFill>
                <a:latin typeface="Angsana News"/>
                <a:ea typeface="Angsana News"/>
              </a:rPr>
              <a:t>  โดยเข้ารับเกียรติบัตรจากผู้ว่าราชการ จังหวัดเชียงใหม่ ในวันประกอบพิธี </a:t>
            </a:r>
            <a:r>
              <a:rPr b="0" lang="en-US" sz="3000" spc="-1" strike="noStrike">
                <a:solidFill>
                  <a:srgbClr val="000000"/>
                </a:solidFill>
                <a:latin typeface="Angsana News"/>
                <a:ea typeface="Angsana News"/>
              </a:rPr>
              <a:t>“</a:t>
            </a:r>
            <a:r>
              <a:rPr b="0" lang="th-TH" sz="3000" spc="-1" strike="noStrike">
                <a:solidFill>
                  <a:srgbClr val="000000"/>
                </a:solidFill>
                <a:latin typeface="Angsana News"/>
                <a:cs typeface="Angsana News"/>
              </a:rPr>
              <a:t>วันข้าราชการพลเรือน ประจำปี </a:t>
            </a:r>
            <a:r>
              <a:rPr b="0" lang="th-TH" sz="3000" spc="-1" strike="noStrike">
                <a:solidFill>
                  <a:srgbClr val="000000"/>
                </a:solidFill>
                <a:latin typeface="Angsana News"/>
                <a:ea typeface="Angsana News"/>
              </a:rPr>
              <a:t>2552</a:t>
            </a:r>
            <a:r>
              <a:rPr b="0" lang="en-US" sz="3000" spc="-1" strike="noStrike">
                <a:solidFill>
                  <a:srgbClr val="000000"/>
                </a:solidFill>
                <a:latin typeface="Angsana News"/>
                <a:ea typeface="Angsana News"/>
              </a:rPr>
              <a:t>” </a:t>
            </a:r>
            <a:r>
              <a:rPr b="0" lang="th-TH" sz="3000" spc="-1" strike="noStrike">
                <a:solidFill>
                  <a:srgbClr val="000000"/>
                </a:solidFill>
                <a:latin typeface="Angsana News"/>
                <a:cs typeface="Angsana News"/>
              </a:rPr>
              <a:t>ณ หอประชุมมหาวิทยาลัยเชียงใหม่  ดังนี้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น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ส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ศศิธร อินทกุล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 หัวหน้ากลุ่มงานแผนงานและข้อมู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สนง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พัฒนาชุมชนจังหวัด ชม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2)  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นายอุดร แสงตาติ๊บ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 ผู้ช่วยเหลือคนไข้ โรงพยาบาลไชยปราการ สนง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สาธารณสุข จ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ชม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นางสุพัตรา บริพันธ์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ครูระดับ คศ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. 2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โรงเรียนบ้านแม่แฮเหนือ  อ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แม่แจ่ม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สำนักงานเขตพื้นที่การศึกษาเชียงใหม่ เขต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4)  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นายสายัณห์ แก้วคำมูล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 นักวิชาการส่งเสริมการเกษตรชำนาญการ สนง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เกษตรอำเภอพร้า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5)  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นายวิทยา   ประยูร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  ครูชำนาญการพิเศษ   โรงเรียนบ้านทุ่งข้าวพวง   อำเภอเชียงดาว  สำนักงานเขตพื้นที่การศึกษาเชียงใหม่ เขต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6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นางสมพร ไชยวงศ์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 ผอ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โรงเรียนบ้านนาดู่ อ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สะเมิง สนง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เขตพื้นที่การศึกษาชม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เขต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7)  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นางจงจิตต์ ใจยอด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  นักวิชาการสาธารณสุขชำนาญการ  สนง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สาธารณสุขอำเภอสันป่าตอ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8)  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นายคเชนทร์   อึ่งสกุล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  นักวิชาการสถิติปฏิบัติการ  สำนักงานสถิติจังหวัด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พิธีเฉลิมพระเกียรติเนื่องในวโรกาสวันพระราชสมภพ</a:t>
            </a:r>
            <a:br>
              <a:rPr sz="4000"/>
            </a:b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สมเด็จพระเทพรัตนราชสุดาฯ สยามบรมราชกุมารี</a:t>
            </a:r>
            <a:br>
              <a:rPr sz="4000"/>
            </a:b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วันที่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 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เมษายน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55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252720" y="213372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300" spc="-1" strike="noStrike">
                <a:solidFill>
                  <a:srgbClr val="000000"/>
                </a:solidFill>
                <a:latin typeface="Angsana News"/>
              </a:rPr>
              <a:t>	</a:t>
            </a:r>
            <a:r>
              <a:rPr b="0" lang="th-TH" sz="3300" spc="-1" strike="noStrike">
                <a:solidFill>
                  <a:srgbClr val="000000"/>
                </a:solidFill>
                <a:latin typeface="Angsana News"/>
              </a:rPr>
              <a:t>	</a:t>
            </a:r>
            <a:r>
              <a:rPr b="0" lang="th-TH" sz="3300" spc="-1" strike="noStrike">
                <a:solidFill>
                  <a:srgbClr val="000000"/>
                </a:solidFill>
                <a:latin typeface="Angsana News"/>
              </a:rPr>
              <a:t>	</a:t>
            </a:r>
            <a:r>
              <a:rPr b="0" lang="th-TH" sz="3300" spc="-1" strike="noStrike">
                <a:solidFill>
                  <a:srgbClr val="000000"/>
                </a:solidFill>
                <a:latin typeface="Angsana News"/>
              </a:rPr>
              <a:t>	</a:t>
            </a:r>
            <a:r>
              <a:rPr b="0" lang="th-TH" sz="3300" spc="-1" strike="noStrike">
                <a:solidFill>
                  <a:srgbClr val="000000"/>
                </a:solidFill>
                <a:latin typeface="Angsana News"/>
              </a:rPr>
              <a:t>	</a:t>
            </a:r>
            <a:r>
              <a:rPr b="1" lang="th-TH" sz="3300" spc="-1" strike="noStrike" u="sng">
                <a:solidFill>
                  <a:srgbClr val="000000"/>
                </a:solidFill>
                <a:uFillTx/>
                <a:latin typeface="Angsana News"/>
              </a:rPr>
              <a:t>กำหนดการ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300" spc="-1" strike="noStrike">
                <a:solidFill>
                  <a:srgbClr val="000000"/>
                </a:solidFill>
                <a:latin typeface="Angsana News"/>
              </a:rPr>
              <a:t>        </a:t>
            </a:r>
            <a:r>
              <a:rPr b="0" lang="th-TH" sz="3300" spc="-1" strike="noStrike">
                <a:solidFill>
                  <a:srgbClr val="000000"/>
                </a:solidFill>
                <a:latin typeface="Angsana News"/>
              </a:rPr>
              <a:t>พร้อม เวลา </a:t>
            </a:r>
            <a:r>
              <a:rPr b="0" lang="th-TH" sz="3300" spc="-1" strike="noStrike">
                <a:solidFill>
                  <a:srgbClr val="000000"/>
                </a:solidFill>
                <a:latin typeface="Angsana News"/>
              </a:rPr>
              <a:t>08.30 </a:t>
            </a:r>
            <a:r>
              <a:rPr b="0" lang="th-TH" sz="3300" spc="-1" strike="noStrike">
                <a:solidFill>
                  <a:srgbClr val="000000"/>
                </a:solidFill>
                <a:latin typeface="Angsana News"/>
              </a:rPr>
              <a:t>น</a:t>
            </a:r>
            <a:r>
              <a:rPr b="0" lang="th-TH" sz="3300" spc="-1" strike="noStrike">
                <a:solidFill>
                  <a:srgbClr val="000000"/>
                </a:solidFill>
                <a:latin typeface="Angsana News"/>
              </a:rPr>
              <a:t>.   </a:t>
            </a:r>
            <a:r>
              <a:rPr b="0" lang="th-TH" sz="3300" spc="-1" strike="noStrike">
                <a:solidFill>
                  <a:srgbClr val="000000"/>
                </a:solidFill>
                <a:latin typeface="Angsana News"/>
              </a:rPr>
              <a:t>เริ่มพิธี  </a:t>
            </a:r>
            <a:r>
              <a:rPr b="0" lang="th-TH" sz="3300" spc="-1" strike="noStrike">
                <a:solidFill>
                  <a:srgbClr val="000000"/>
                </a:solidFill>
                <a:latin typeface="Angsana News"/>
              </a:rPr>
              <a:t>09.00 </a:t>
            </a:r>
            <a:r>
              <a:rPr b="0" lang="th-TH" sz="3300" spc="-1" strike="noStrike">
                <a:solidFill>
                  <a:srgbClr val="000000"/>
                </a:solidFill>
                <a:latin typeface="Angsana News"/>
              </a:rPr>
              <a:t>น</a:t>
            </a:r>
            <a:r>
              <a:rPr b="0" lang="th-TH" sz="3300" spc="-1" strike="noStrike">
                <a:solidFill>
                  <a:srgbClr val="000000"/>
                </a:solidFill>
                <a:latin typeface="Angsana News"/>
              </a:rPr>
              <a:t>.  </a:t>
            </a:r>
            <a:r>
              <a:rPr b="1" lang="th-TH" sz="3300" spc="-1" strike="noStrike" u="sng">
                <a:solidFill>
                  <a:srgbClr val="000000"/>
                </a:solidFill>
                <a:uFillTx/>
                <a:latin typeface="Angsana News"/>
              </a:rPr>
              <a:t>ณ หอประชุมมหาวิทยาลัยเชียงใหม่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300" spc="-1" strike="noStrike">
                <a:solidFill>
                  <a:srgbClr val="000000"/>
                </a:solidFill>
                <a:latin typeface="Angsana News"/>
              </a:rPr>
              <a:t>	</a:t>
            </a:r>
            <a:r>
              <a:rPr b="1" lang="th-TH" sz="3300" spc="-1" strike="noStrike" u="sng">
                <a:solidFill>
                  <a:srgbClr val="000000"/>
                </a:solidFill>
                <a:uFillTx/>
                <a:latin typeface="Angsana News"/>
              </a:rPr>
              <a:t>การแต่งกาย</a:t>
            </a:r>
            <a:r>
              <a:rPr b="0" lang="th-TH" sz="3300" spc="-1" strike="noStrike">
                <a:solidFill>
                  <a:srgbClr val="000000"/>
                </a:solidFill>
                <a:latin typeface="Angsana News"/>
              </a:rPr>
              <a:t> 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300" spc="-1" strike="noStrike">
                <a:solidFill>
                  <a:srgbClr val="000000"/>
                </a:solidFill>
                <a:latin typeface="Angsana News"/>
              </a:rPr>
              <a:t>	</a:t>
            </a: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ข้าราชการพลเรือน </a:t>
            </a: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เครื่องแบบปกติขาว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ทหาร ตำรวจ  </a:t>
            </a: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เครื่องแบบปกติขาว  คาดกระบี่  ถุงมือ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บุคคลทั่วไป </a:t>
            </a: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สุภาพบุรุษ </a:t>
            </a: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ชุดสากลนิยม  ชุดไทย  ชุดพระราชทาน 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หรือเครื่องแบบตามสังกัด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สุภาพสตรี </a:t>
            </a: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ชุดพื้นเมืองห่มสไบ  หรือเครื่องแบบตามสังกัด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พิธีวันพระบาทสมเด็จพระพุทธยอดฟ้าจุฬาโลกมหาราช  </a:t>
            </a:r>
            <a:br>
              <a:rPr sz="4000"/>
            </a:b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และวันที่ระลึกมหาจักรีบรมราชวงศ์</a:t>
            </a:r>
            <a:br>
              <a:rPr sz="4000"/>
            </a:b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วันที่  </a:t>
            </a: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6  </a:t>
            </a: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เมษายน  </a:t>
            </a: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255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181440" y="1860480"/>
            <a:ext cx="9325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h-TH" sz="3300" spc="-1" strike="noStrike" u="sng">
                <a:solidFill>
                  <a:srgbClr val="000000"/>
                </a:solidFill>
                <a:uFillTx/>
                <a:latin typeface="Arial"/>
              </a:rPr>
              <a:t>กำหนดการ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พร้อมเวลา </a:t>
            </a: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08.30 </a:t>
            </a: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น</a:t>
            </a: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.   </a:t>
            </a: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เริ่มพิธี  </a:t>
            </a: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09.00 </a:t>
            </a: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น</a:t>
            </a: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th-TH" sz="3300" spc="-1" strike="noStrike" u="sng">
                <a:solidFill>
                  <a:srgbClr val="000000"/>
                </a:solidFill>
                <a:uFillTx/>
                <a:latin typeface="Arial"/>
              </a:rPr>
              <a:t>ณ หอประชุมมหาวิทยาลัยเชียงใหม่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h-TH" sz="3300" spc="-1" strike="noStrike" u="sng">
                <a:solidFill>
                  <a:srgbClr val="000000"/>
                </a:solidFill>
                <a:uFillTx/>
                <a:latin typeface="Arial"/>
              </a:rPr>
              <a:t>การแต่งกาย</a:t>
            </a: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ข้าราชการพลเรือน </a:t>
            </a: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เครื่องแบบปกติขาว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ทหาร ตำรวจ  </a:t>
            </a: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เครื่องแบบปกติขาว  คาดกระบี่  ถุงมือ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บุคคลทั่วไป </a:t>
            </a: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สุภาพบุรุษ </a:t>
            </a: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ชุดสากลนิยม  ชุดไทย  ชุดพระราชทาน 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หรือเครื่องแบบตามสังกัด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สุภาพสตรี </a:t>
            </a: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3300" spc="-1" strike="noStrike">
                <a:solidFill>
                  <a:srgbClr val="000000"/>
                </a:solidFill>
                <a:latin typeface="Arial"/>
              </a:rPr>
              <a:t>ชุดพื้นเมืองห่มสไบ  หรือเครื่องแบบตามสังกัด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560" y="58320"/>
            <a:ext cx="900108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พิธีวันคล้ายวันสวรรคต  สมเด็จพระนเรศวรมหาราช  ประจำป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552   </a:t>
            </a:r>
            <a:br>
              <a:rPr sz="3200"/>
            </a:b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วันศุกร์ที่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5 </a:t>
            </a: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เมษายน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552 </a:t>
            </a: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ณ สถูปเจดีย์สมเด็จพระนเรศวรมหาราชานุสรณ์  </a:t>
            </a:r>
            <a:br>
              <a:rPr sz="3200"/>
            </a:b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ตำบลเมืองงาย  อำเภอเชียงดา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15640" y="1412640"/>
            <a:ext cx="86770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 u="sng">
                <a:solidFill>
                  <a:srgbClr val="000000"/>
                </a:solidFill>
                <a:uFillTx/>
                <a:latin typeface="Arial"/>
              </a:rPr>
              <a:t>กำหนดกา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พร้อมเวลา </a:t>
            </a: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08.00 </a:t>
            </a: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น</a:t>
            </a: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เริ่มพิธี  </a:t>
            </a: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09.00 </a:t>
            </a: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น</a:t>
            </a: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 u="sng">
                <a:solidFill>
                  <a:srgbClr val="000000"/>
                </a:solidFill>
                <a:uFillTx/>
                <a:latin typeface="Arial"/>
              </a:rPr>
              <a:t>การแต่งกา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ข้าราชการพลเรือน </a:t>
            </a: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เครื่องแบบปกติขาว สวมหมว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ทหาร ตำรวจ  </a:t>
            </a: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เครื่องแบบปกติขาว  คาดกระบี่  ถุงมื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กำนันผู้ใหญ่บ้าน</a:t>
            </a: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สมาชิด อปท</a:t>
            </a: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เครื่องแบบปฏิบัติราชการสีกาก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บุคคลทั่วไป </a:t>
            </a: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สุภาพบุรุษ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ชุดสากลนิยม  ชุดไทย  ชุดพระราชทาน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ชุดพื้นเมืองหรือเครื่องแบบตามสังกั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สุภาพสตรี </a:t>
            </a: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ชุดไทย ชุดพระราชทาน ชุดพื้นเมืองห่มสไบ </a:t>
            </a: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       ชุดสุภาพ หรือเครื่องแบบตามสังกั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00"/>
                </a:solidFill>
                <a:latin typeface="Arial"/>
              </a:rPr>
              <a:t>หมายเหตุ  การถวายเครื่องสักการะ </a:t>
            </a:r>
            <a:r>
              <a:rPr b="1" lang="th-TH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th-TH" sz="3000" spc="-1" strike="noStrike">
                <a:solidFill>
                  <a:srgbClr val="000000"/>
                </a:solidFill>
                <a:latin typeface="Arial"/>
              </a:rPr>
              <a:t>วางพวงมาลา</a:t>
            </a:r>
            <a:r>
              <a:rPr b="1" lang="th-TH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02:07:44Z</dcterms:created>
  <dc:creator>owner</dc:creator>
  <dc:description/>
  <dc:language>en-US</dc:language>
  <cp:lastModifiedBy>ponglikit</cp:lastModifiedBy>
  <dcterms:modified xsi:type="dcterms:W3CDTF">2009-03-27T20:40:30Z</dcterms:modified>
  <cp:revision>14</cp:revision>
  <dc:subject/>
  <dc:title>งานพิธีจังหวัดเชียงใหม่ ณ  หอประชุมมหาวิทยาลัยเชียงใหม่  ดังนี้</dc:title>
</cp:coreProperties>
</file>