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556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93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336764-011E-4F79-9A51-A5AD1237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A54277AA-0A04-4C4D-840A-E16C5FCC6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60280" y="94435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8EB6D4-99FD-4199-B7D9-25C451DB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4435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C173AB01-7AB1-452F-8881-362409CCE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05B219FB-D9B9-45BE-BAF9-18B9B4BA2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60280" y="94435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83317A-B444-4C4A-BF9B-630A59F0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4435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55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932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906-5352-4F4F-95F4-F7AF18AE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F0D-C9C7-4922-8759-3500D53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F29-7FE6-4D1C-8635-DEE42384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55F-E525-4209-9363-39602CCF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6DC5-F0E1-4059-BAD2-A06D830D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7B10-0887-49CD-9199-684688F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B01-54C0-43DE-948C-ACB5DF9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BDE-C203-47C1-B715-529B3F1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9747-3B00-4BC4-A7D9-8B2AA46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600C-469F-4AAE-A0F7-19D96E1D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AD8-0E36-4283-BF6E-7653B38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367-6665-46D8-967C-8623A46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90C1-620E-4EF7-9C99-6DBFC5A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EE5-9376-45C6-87D1-BF1B238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EA7D-59F0-419F-98AB-0730232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444D-08B5-4F9D-95FD-DBE7B1E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AF2-C5D7-435D-83F9-ECB6AC08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BD4-19E1-4BB6-88EA-74304FD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778-1C21-43C1-85DC-AE7E56F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CFB-FFE1-4B8C-978D-4628582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146-D56E-45D9-8A0E-C3E03977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54E-F790-4B53-837C-8AA8F43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E3C-9A93-4541-8470-34E21D6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F68-16D0-4BF7-AFC6-74F0FB7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7F3C-80E6-4B6A-9DE5-69ED627F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05B-830C-4EB3-9B0B-08BC62F7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44612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2.1  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พระราชบัญญัติระเบียบข้าราชการพลเรือน     พ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hi-IN" sz="54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.255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F22-92FE-4FCC-B950-FFB5167443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สรรวงเงินเลื่อนเงินเดือ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1D2-DF2D-4B06-8328-5A2C98DFB818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3924360" y="4149720"/>
            <a:ext cx="4895640" cy="1728720"/>
          </a:xfrm>
          <a:prstGeom prst="flowChartManualInpu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 rot="10800000">
            <a:off x="3924360" y="2491560"/>
            <a:ext cx="4867200" cy="1801800"/>
          </a:xfrm>
          <a:prstGeom prst="flowChartManualInput">
            <a:avLst/>
          </a:prstGeom>
          <a:solidFill>
            <a:srgbClr val="e366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95280" y="3860640"/>
            <a:ext cx="3024360" cy="1368720"/>
          </a:xfrm>
          <a:prstGeom prst="flowChartManualInput">
            <a:avLst/>
          </a:prstGeom>
          <a:solidFill>
            <a:srgbClr val="7fb2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ส่วนภูมิภา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 rot="10800000">
            <a:off x="394920" y="2565000"/>
            <a:ext cx="3024360" cy="1368360"/>
          </a:xfrm>
          <a:prstGeom prst="flowChartManualInput">
            <a:avLst/>
          </a:prstGeom>
          <a:solidFill>
            <a:srgbClr val="7476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ส่วน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258920" y="177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เดิ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68360" y="3429000"/>
            <a:ext cx="1297080" cy="863640"/>
          </a:xfrm>
          <a:prstGeom prst="ellipse">
            <a:avLst/>
          </a:prstGeom>
          <a:solidFill>
            <a:srgbClr val="cc99ff"/>
          </a:solidFill>
          <a:ln w="0">
            <a:noFill/>
          </a:ln>
          <a:effectLst>
            <a:outerShdw dist="107932" dir="135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9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ขึ้น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979640" y="3429000"/>
            <a:ext cx="1297080" cy="86364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8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ลง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508720" y="177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แนวใหม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4859280" y="3645000"/>
            <a:ext cx="3313080" cy="93492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37399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3995640" y="2637000"/>
            <a:ext cx="3313080" cy="86508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37399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วิชากา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5580000" y="4724280"/>
            <a:ext cx="3313080" cy="86544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37399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 rot="3117000">
            <a:off x="6804000" y="3141000"/>
            <a:ext cx="720720" cy="648000"/>
          </a:xfrm>
          <a:prstGeom prst="leftRightArrow">
            <a:avLst>
              <a:gd name="adj1" fmla="val 50000"/>
              <a:gd name="adj2" fmla="val 24098"/>
            </a:avLst>
          </a:prstGeom>
          <a:solidFill>
            <a:srgbClr val="993366"/>
          </a:solidFill>
          <a:ln w="0">
            <a:noFill/>
          </a:ln>
          <a:effectLst>
            <a:outerShdw dist="107932" dir="18900000" blurRad="0" rotWithShape="0">
              <a:srgbClr val="7476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 rot="3117000">
            <a:off x="7559280" y="4257720"/>
            <a:ext cx="720720" cy="647640"/>
          </a:xfrm>
          <a:prstGeom prst="leftRightArrow">
            <a:avLst>
              <a:gd name="adj1" fmla="val 50000"/>
              <a:gd name="adj2" fmla="val 24112"/>
            </a:avLst>
          </a:prstGeom>
          <a:solidFill>
            <a:srgbClr val="993366"/>
          </a:solidFill>
          <a:ln w="0">
            <a:noFill/>
          </a:ln>
          <a:effectLst>
            <a:outerShdw dist="107932" dir="18900000" blurRad="0" rotWithShape="0">
              <a:srgbClr val="7476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6823080" y="2438280"/>
            <a:ext cx="211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ส่วนกลาง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ปลัด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อธิบด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924360" y="436572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ส่วนภูมิภาค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ผู้ว่า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6932520" y="3083040"/>
          <a:ext cx="547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2520" y="3083040"/>
                    <a:ext cx="547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40"/>
          <p:cNvGrpSpPr/>
          <p:nvPr/>
        </p:nvGrpSpPr>
        <p:grpSpPr>
          <a:xfrm>
            <a:off x="1619280" y="3429000"/>
            <a:ext cx="647640" cy="504720"/>
            <a:chOff x="1619280" y="3429000"/>
            <a:chExt cx="647640" cy="504720"/>
          </a:xfrm>
        </p:grpSpPr>
        <p:sp>
          <p:nvSpPr>
            <p:cNvPr id="140" name="Freeform 41"/>
            <p:cNvSpPr/>
            <p:nvPr/>
          </p:nvSpPr>
          <p:spPr>
            <a:xfrm>
              <a:off x="1834200" y="3600720"/>
              <a:ext cx="130680" cy="7740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2"/>
            <p:cNvSpPr/>
            <p:nvPr/>
          </p:nvSpPr>
          <p:spPr>
            <a:xfrm>
              <a:off x="1834200" y="3600720"/>
              <a:ext cx="13068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1843200" y="3607200"/>
              <a:ext cx="11052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4"/>
            <p:cNvSpPr/>
            <p:nvPr/>
          </p:nvSpPr>
          <p:spPr>
            <a:xfrm>
              <a:off x="1843200" y="3607200"/>
              <a:ext cx="11052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5"/>
            <p:cNvSpPr/>
            <p:nvPr/>
          </p:nvSpPr>
          <p:spPr>
            <a:xfrm>
              <a:off x="1835280" y="3646440"/>
              <a:ext cx="127800" cy="4032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6"/>
            <p:cNvSpPr/>
            <p:nvPr/>
          </p:nvSpPr>
          <p:spPr>
            <a:xfrm>
              <a:off x="1830960" y="3579840"/>
              <a:ext cx="130680" cy="7704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7"/>
            <p:cNvSpPr/>
            <p:nvPr/>
          </p:nvSpPr>
          <p:spPr>
            <a:xfrm>
              <a:off x="1830960" y="3579840"/>
              <a:ext cx="13068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1839960" y="358596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9"/>
            <p:cNvSpPr/>
            <p:nvPr/>
          </p:nvSpPr>
          <p:spPr>
            <a:xfrm>
              <a:off x="1839960" y="358596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0"/>
            <p:cNvSpPr/>
            <p:nvPr/>
          </p:nvSpPr>
          <p:spPr>
            <a:xfrm>
              <a:off x="1832040" y="3625200"/>
              <a:ext cx="127800" cy="4032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1"/>
            <p:cNvSpPr/>
            <p:nvPr/>
          </p:nvSpPr>
          <p:spPr>
            <a:xfrm>
              <a:off x="1832400" y="3555720"/>
              <a:ext cx="130680" cy="7740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2"/>
            <p:cNvSpPr/>
            <p:nvPr/>
          </p:nvSpPr>
          <p:spPr>
            <a:xfrm>
              <a:off x="1832400" y="3555720"/>
              <a:ext cx="13068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3"/>
            <p:cNvSpPr/>
            <p:nvPr/>
          </p:nvSpPr>
          <p:spPr>
            <a:xfrm>
              <a:off x="1841400" y="356220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>
              <a:off x="1841400" y="356220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5"/>
            <p:cNvSpPr/>
            <p:nvPr/>
          </p:nvSpPr>
          <p:spPr>
            <a:xfrm>
              <a:off x="1833840" y="3600720"/>
              <a:ext cx="127800" cy="4068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6"/>
            <p:cNvSpPr/>
            <p:nvPr/>
          </p:nvSpPr>
          <p:spPr>
            <a:xfrm>
              <a:off x="1829160" y="3534840"/>
              <a:ext cx="130680" cy="7704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7"/>
            <p:cNvSpPr/>
            <p:nvPr/>
          </p:nvSpPr>
          <p:spPr>
            <a:xfrm>
              <a:off x="1829160" y="3534840"/>
              <a:ext cx="13068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8"/>
            <p:cNvSpPr/>
            <p:nvPr/>
          </p:nvSpPr>
          <p:spPr>
            <a:xfrm>
              <a:off x="1838160" y="3540600"/>
              <a:ext cx="11088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9"/>
            <p:cNvSpPr/>
            <p:nvPr/>
          </p:nvSpPr>
          <p:spPr>
            <a:xfrm>
              <a:off x="1838160" y="3540600"/>
              <a:ext cx="11088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0"/>
            <p:cNvSpPr/>
            <p:nvPr/>
          </p:nvSpPr>
          <p:spPr>
            <a:xfrm>
              <a:off x="1830240" y="3580200"/>
              <a:ext cx="127800" cy="4032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1"/>
            <p:cNvSpPr/>
            <p:nvPr/>
          </p:nvSpPr>
          <p:spPr>
            <a:xfrm>
              <a:off x="1833840" y="3515400"/>
              <a:ext cx="129960" cy="7704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2"/>
            <p:cNvSpPr/>
            <p:nvPr/>
          </p:nvSpPr>
          <p:spPr>
            <a:xfrm>
              <a:off x="1833840" y="3515400"/>
              <a:ext cx="12996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3"/>
            <p:cNvSpPr/>
            <p:nvPr/>
          </p:nvSpPr>
          <p:spPr>
            <a:xfrm>
              <a:off x="1842840" y="352152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4"/>
            <p:cNvSpPr/>
            <p:nvPr/>
          </p:nvSpPr>
          <p:spPr>
            <a:xfrm>
              <a:off x="1842840" y="352152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5"/>
            <p:cNvSpPr/>
            <p:nvPr/>
          </p:nvSpPr>
          <p:spPr>
            <a:xfrm>
              <a:off x="1834200" y="3560760"/>
              <a:ext cx="128160" cy="4068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6"/>
            <p:cNvSpPr/>
            <p:nvPr/>
          </p:nvSpPr>
          <p:spPr>
            <a:xfrm>
              <a:off x="1830240" y="3493800"/>
              <a:ext cx="129960" cy="7776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7"/>
            <p:cNvSpPr/>
            <p:nvPr/>
          </p:nvSpPr>
          <p:spPr>
            <a:xfrm>
              <a:off x="1830240" y="3493800"/>
              <a:ext cx="12996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8"/>
            <p:cNvSpPr/>
            <p:nvPr/>
          </p:nvSpPr>
          <p:spPr>
            <a:xfrm>
              <a:off x="1839600" y="350064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9"/>
            <p:cNvSpPr/>
            <p:nvPr/>
          </p:nvSpPr>
          <p:spPr>
            <a:xfrm>
              <a:off x="1839600" y="350064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0"/>
            <p:cNvSpPr/>
            <p:nvPr/>
          </p:nvSpPr>
          <p:spPr>
            <a:xfrm>
              <a:off x="1830960" y="3539880"/>
              <a:ext cx="128880" cy="4032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1"/>
            <p:cNvSpPr/>
            <p:nvPr/>
          </p:nvSpPr>
          <p:spPr>
            <a:xfrm>
              <a:off x="1832040" y="3470040"/>
              <a:ext cx="129960" cy="7704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72"/>
            <p:cNvSpPr/>
            <p:nvPr/>
          </p:nvSpPr>
          <p:spPr>
            <a:xfrm>
              <a:off x="1832040" y="3470040"/>
              <a:ext cx="12996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3"/>
            <p:cNvSpPr/>
            <p:nvPr/>
          </p:nvSpPr>
          <p:spPr>
            <a:xfrm>
              <a:off x="1841040" y="3476880"/>
              <a:ext cx="110520" cy="6552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>
              <a:off x="1841040" y="3476880"/>
              <a:ext cx="110520" cy="6552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5"/>
            <p:cNvSpPr/>
            <p:nvPr/>
          </p:nvSpPr>
          <p:spPr>
            <a:xfrm>
              <a:off x="1832400" y="3515400"/>
              <a:ext cx="128160" cy="4032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6"/>
            <p:cNvSpPr/>
            <p:nvPr/>
          </p:nvSpPr>
          <p:spPr>
            <a:xfrm>
              <a:off x="1828800" y="3449160"/>
              <a:ext cx="129960" cy="7740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7"/>
            <p:cNvSpPr/>
            <p:nvPr/>
          </p:nvSpPr>
          <p:spPr>
            <a:xfrm>
              <a:off x="1828800" y="3449160"/>
              <a:ext cx="12996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8"/>
            <p:cNvSpPr/>
            <p:nvPr/>
          </p:nvSpPr>
          <p:spPr>
            <a:xfrm>
              <a:off x="1837800" y="3455280"/>
              <a:ext cx="11052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9"/>
            <p:cNvSpPr/>
            <p:nvPr/>
          </p:nvSpPr>
          <p:spPr>
            <a:xfrm>
              <a:off x="1837800" y="3455280"/>
              <a:ext cx="11052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0"/>
            <p:cNvSpPr/>
            <p:nvPr/>
          </p:nvSpPr>
          <p:spPr>
            <a:xfrm>
              <a:off x="1829160" y="3494160"/>
              <a:ext cx="128880" cy="4068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1"/>
            <p:cNvSpPr/>
            <p:nvPr/>
          </p:nvSpPr>
          <p:spPr>
            <a:xfrm>
              <a:off x="1825920" y="3429000"/>
              <a:ext cx="130680" cy="7704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2"/>
            <p:cNvSpPr/>
            <p:nvPr/>
          </p:nvSpPr>
          <p:spPr>
            <a:xfrm>
              <a:off x="1825920" y="3429000"/>
              <a:ext cx="13068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"/>
            <p:cNvSpPr/>
            <p:nvPr/>
          </p:nvSpPr>
          <p:spPr>
            <a:xfrm>
              <a:off x="1835640" y="3435480"/>
              <a:ext cx="110520" cy="6516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4"/>
            <p:cNvSpPr/>
            <p:nvPr/>
          </p:nvSpPr>
          <p:spPr>
            <a:xfrm>
              <a:off x="1835640" y="3435480"/>
              <a:ext cx="110520" cy="6516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5"/>
            <p:cNvSpPr/>
            <p:nvPr/>
          </p:nvSpPr>
          <p:spPr>
            <a:xfrm>
              <a:off x="1827000" y="3474000"/>
              <a:ext cx="128160" cy="40680"/>
            </a:xfrm>
            <a:prstGeom prst="pie">
              <a:avLst/>
            </a:pr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6"/>
            <p:cNvSpPr/>
            <p:nvPr/>
          </p:nvSpPr>
          <p:spPr>
            <a:xfrm>
              <a:off x="1841040" y="3436920"/>
              <a:ext cx="98280" cy="62280"/>
            </a:xfrm>
            <a:prstGeom prst="pie">
              <a:avLst/>
            </a:pr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7"/>
            <p:cNvSpPr/>
            <p:nvPr/>
          </p:nvSpPr>
          <p:spPr>
            <a:xfrm>
              <a:off x="1859400" y="3436920"/>
              <a:ext cx="66600" cy="59760"/>
            </a:xfrm>
            <a:prstGeom prst="pie">
              <a:avLst/>
            </a:pr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8"/>
            <p:cNvSpPr/>
            <p:nvPr/>
          </p:nvSpPr>
          <p:spPr>
            <a:xfrm>
              <a:off x="1875600" y="3471840"/>
              <a:ext cx="20160" cy="6480"/>
            </a:xfrm>
            <a:prstGeom prst="pie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9"/>
            <p:cNvSpPr/>
            <p:nvPr/>
          </p:nvSpPr>
          <p:spPr>
            <a:xfrm>
              <a:off x="1873080" y="3456720"/>
              <a:ext cx="22680" cy="5400"/>
            </a:xfrm>
            <a:prstGeom prst="pie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0"/>
            <p:cNvSpPr/>
            <p:nvPr/>
          </p:nvSpPr>
          <p:spPr>
            <a:xfrm>
              <a:off x="1935720" y="3647520"/>
              <a:ext cx="13068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1"/>
            <p:cNvSpPr/>
            <p:nvPr/>
          </p:nvSpPr>
          <p:spPr>
            <a:xfrm>
              <a:off x="1935720" y="3647520"/>
              <a:ext cx="13068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2"/>
            <p:cNvSpPr/>
            <p:nvPr/>
          </p:nvSpPr>
          <p:spPr>
            <a:xfrm>
              <a:off x="1946520" y="365436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3"/>
            <p:cNvSpPr/>
            <p:nvPr/>
          </p:nvSpPr>
          <p:spPr>
            <a:xfrm>
              <a:off x="1946520" y="365436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4"/>
            <p:cNvSpPr/>
            <p:nvPr/>
          </p:nvSpPr>
          <p:spPr>
            <a:xfrm>
              <a:off x="1937520" y="369324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5"/>
            <p:cNvSpPr/>
            <p:nvPr/>
          </p:nvSpPr>
          <p:spPr>
            <a:xfrm>
              <a:off x="1939320" y="3627000"/>
              <a:ext cx="130680" cy="7704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6"/>
            <p:cNvSpPr/>
            <p:nvPr/>
          </p:nvSpPr>
          <p:spPr>
            <a:xfrm>
              <a:off x="1939320" y="3627000"/>
              <a:ext cx="13068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7"/>
            <p:cNvSpPr/>
            <p:nvPr/>
          </p:nvSpPr>
          <p:spPr>
            <a:xfrm>
              <a:off x="1949760" y="363312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8"/>
            <p:cNvSpPr/>
            <p:nvPr/>
          </p:nvSpPr>
          <p:spPr>
            <a:xfrm>
              <a:off x="1949760" y="363312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9"/>
            <p:cNvSpPr/>
            <p:nvPr/>
          </p:nvSpPr>
          <p:spPr>
            <a:xfrm>
              <a:off x="1940760" y="3672360"/>
              <a:ext cx="12780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0"/>
            <p:cNvSpPr/>
            <p:nvPr/>
          </p:nvSpPr>
          <p:spPr>
            <a:xfrm>
              <a:off x="1937520" y="3603240"/>
              <a:ext cx="130680" cy="7704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1"/>
            <p:cNvSpPr/>
            <p:nvPr/>
          </p:nvSpPr>
          <p:spPr>
            <a:xfrm>
              <a:off x="1937520" y="3603240"/>
              <a:ext cx="13068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2"/>
            <p:cNvSpPr/>
            <p:nvPr/>
          </p:nvSpPr>
          <p:spPr>
            <a:xfrm>
              <a:off x="1948320" y="3609000"/>
              <a:ext cx="11052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3"/>
            <p:cNvSpPr/>
            <p:nvPr/>
          </p:nvSpPr>
          <p:spPr>
            <a:xfrm>
              <a:off x="1948320" y="3609000"/>
              <a:ext cx="11052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4"/>
            <p:cNvSpPr/>
            <p:nvPr/>
          </p:nvSpPr>
          <p:spPr>
            <a:xfrm>
              <a:off x="1939320" y="364860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5"/>
            <p:cNvSpPr/>
            <p:nvPr/>
          </p:nvSpPr>
          <p:spPr>
            <a:xfrm>
              <a:off x="1940760" y="3581640"/>
              <a:ext cx="130320" cy="7776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6"/>
            <p:cNvSpPr/>
            <p:nvPr/>
          </p:nvSpPr>
          <p:spPr>
            <a:xfrm>
              <a:off x="1940760" y="3581640"/>
              <a:ext cx="13032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7"/>
            <p:cNvSpPr/>
            <p:nvPr/>
          </p:nvSpPr>
          <p:spPr>
            <a:xfrm>
              <a:off x="1951560" y="3588480"/>
              <a:ext cx="110520" cy="6552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8"/>
            <p:cNvSpPr/>
            <p:nvPr/>
          </p:nvSpPr>
          <p:spPr>
            <a:xfrm>
              <a:off x="1951560" y="3588480"/>
              <a:ext cx="110520" cy="6552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9"/>
            <p:cNvSpPr/>
            <p:nvPr/>
          </p:nvSpPr>
          <p:spPr>
            <a:xfrm>
              <a:off x="1942560" y="362700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0"/>
            <p:cNvSpPr/>
            <p:nvPr/>
          </p:nvSpPr>
          <p:spPr>
            <a:xfrm>
              <a:off x="1937160" y="3562200"/>
              <a:ext cx="129960" cy="7776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1937160" y="3562200"/>
              <a:ext cx="12996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2"/>
            <p:cNvSpPr/>
            <p:nvPr/>
          </p:nvSpPr>
          <p:spPr>
            <a:xfrm>
              <a:off x="1946880" y="356904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3"/>
            <p:cNvSpPr/>
            <p:nvPr/>
          </p:nvSpPr>
          <p:spPr>
            <a:xfrm>
              <a:off x="1946880" y="356904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4"/>
            <p:cNvSpPr/>
            <p:nvPr/>
          </p:nvSpPr>
          <p:spPr>
            <a:xfrm>
              <a:off x="1937880" y="3607560"/>
              <a:ext cx="12888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5"/>
            <p:cNvSpPr/>
            <p:nvPr/>
          </p:nvSpPr>
          <p:spPr>
            <a:xfrm>
              <a:off x="1940040" y="3541680"/>
              <a:ext cx="130320" cy="7704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6"/>
            <p:cNvSpPr/>
            <p:nvPr/>
          </p:nvSpPr>
          <p:spPr>
            <a:xfrm>
              <a:off x="1940040" y="3541680"/>
              <a:ext cx="13032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7"/>
            <p:cNvSpPr/>
            <p:nvPr/>
          </p:nvSpPr>
          <p:spPr>
            <a:xfrm>
              <a:off x="1950120" y="3548160"/>
              <a:ext cx="110880" cy="6552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8"/>
            <p:cNvSpPr/>
            <p:nvPr/>
          </p:nvSpPr>
          <p:spPr>
            <a:xfrm>
              <a:off x="1950120" y="3548160"/>
              <a:ext cx="110880" cy="6552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9"/>
            <p:cNvSpPr/>
            <p:nvPr/>
          </p:nvSpPr>
          <p:spPr>
            <a:xfrm>
              <a:off x="1941120" y="3587040"/>
              <a:ext cx="12888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0"/>
            <p:cNvSpPr/>
            <p:nvPr/>
          </p:nvSpPr>
          <p:spPr>
            <a:xfrm>
              <a:off x="1938600" y="3517560"/>
              <a:ext cx="12996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1"/>
            <p:cNvSpPr/>
            <p:nvPr/>
          </p:nvSpPr>
          <p:spPr>
            <a:xfrm>
              <a:off x="1938600" y="3517560"/>
              <a:ext cx="12996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2"/>
            <p:cNvSpPr/>
            <p:nvPr/>
          </p:nvSpPr>
          <p:spPr>
            <a:xfrm>
              <a:off x="1948680" y="3523680"/>
              <a:ext cx="11088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3"/>
            <p:cNvSpPr/>
            <p:nvPr/>
          </p:nvSpPr>
          <p:spPr>
            <a:xfrm>
              <a:off x="1948680" y="3523680"/>
              <a:ext cx="11088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4"/>
            <p:cNvSpPr/>
            <p:nvPr/>
          </p:nvSpPr>
          <p:spPr>
            <a:xfrm>
              <a:off x="1939680" y="3562560"/>
              <a:ext cx="12888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5"/>
            <p:cNvSpPr/>
            <p:nvPr/>
          </p:nvSpPr>
          <p:spPr>
            <a:xfrm>
              <a:off x="1941480" y="3495960"/>
              <a:ext cx="130320" cy="7776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6"/>
            <p:cNvSpPr/>
            <p:nvPr/>
          </p:nvSpPr>
          <p:spPr>
            <a:xfrm>
              <a:off x="1941480" y="3495960"/>
              <a:ext cx="13032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7"/>
            <p:cNvSpPr/>
            <p:nvPr/>
          </p:nvSpPr>
          <p:spPr>
            <a:xfrm>
              <a:off x="1951920" y="350244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8"/>
            <p:cNvSpPr/>
            <p:nvPr/>
          </p:nvSpPr>
          <p:spPr>
            <a:xfrm>
              <a:off x="1951920" y="350244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9"/>
            <p:cNvSpPr/>
            <p:nvPr/>
          </p:nvSpPr>
          <p:spPr>
            <a:xfrm>
              <a:off x="1942920" y="3542040"/>
              <a:ext cx="12816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0"/>
            <p:cNvSpPr/>
            <p:nvPr/>
          </p:nvSpPr>
          <p:spPr>
            <a:xfrm>
              <a:off x="1944000" y="347616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1"/>
            <p:cNvSpPr/>
            <p:nvPr/>
          </p:nvSpPr>
          <p:spPr>
            <a:xfrm>
              <a:off x="1944000" y="347616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2"/>
            <p:cNvSpPr/>
            <p:nvPr/>
          </p:nvSpPr>
          <p:spPr>
            <a:xfrm>
              <a:off x="1954080" y="3482280"/>
              <a:ext cx="110880" cy="6624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3"/>
            <p:cNvSpPr/>
            <p:nvPr/>
          </p:nvSpPr>
          <p:spPr>
            <a:xfrm>
              <a:off x="1954080" y="3482280"/>
              <a:ext cx="11088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4"/>
            <p:cNvSpPr/>
            <p:nvPr/>
          </p:nvSpPr>
          <p:spPr>
            <a:xfrm>
              <a:off x="1944720" y="3521520"/>
              <a:ext cx="12888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5"/>
            <p:cNvSpPr/>
            <p:nvPr/>
          </p:nvSpPr>
          <p:spPr>
            <a:xfrm>
              <a:off x="1960920" y="3484080"/>
              <a:ext cx="98640" cy="626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>
              <a:off x="1974600" y="3483720"/>
              <a:ext cx="66600" cy="5976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7"/>
            <p:cNvSpPr/>
            <p:nvPr/>
          </p:nvSpPr>
          <p:spPr>
            <a:xfrm>
              <a:off x="2004480" y="3519000"/>
              <a:ext cx="20520" cy="61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8"/>
            <p:cNvSpPr/>
            <p:nvPr/>
          </p:nvSpPr>
          <p:spPr>
            <a:xfrm>
              <a:off x="2004480" y="3504240"/>
              <a:ext cx="22320" cy="50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39"/>
            <p:cNvSpPr/>
            <p:nvPr/>
          </p:nvSpPr>
          <p:spPr>
            <a:xfrm>
              <a:off x="1748520" y="3736080"/>
              <a:ext cx="12996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0"/>
            <p:cNvSpPr/>
            <p:nvPr/>
          </p:nvSpPr>
          <p:spPr>
            <a:xfrm>
              <a:off x="1748520" y="3736080"/>
              <a:ext cx="12996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41"/>
            <p:cNvSpPr/>
            <p:nvPr/>
          </p:nvSpPr>
          <p:spPr>
            <a:xfrm>
              <a:off x="1757520" y="374256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2"/>
            <p:cNvSpPr/>
            <p:nvPr/>
          </p:nvSpPr>
          <p:spPr>
            <a:xfrm>
              <a:off x="1757520" y="374256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3"/>
            <p:cNvSpPr/>
            <p:nvPr/>
          </p:nvSpPr>
          <p:spPr>
            <a:xfrm>
              <a:off x="1748880" y="3781440"/>
              <a:ext cx="12888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44"/>
            <p:cNvSpPr/>
            <p:nvPr/>
          </p:nvSpPr>
          <p:spPr>
            <a:xfrm>
              <a:off x="1745280" y="3715200"/>
              <a:ext cx="130320" cy="7704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45"/>
            <p:cNvSpPr/>
            <p:nvPr/>
          </p:nvSpPr>
          <p:spPr>
            <a:xfrm>
              <a:off x="1745280" y="3715200"/>
              <a:ext cx="130320" cy="7704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6"/>
            <p:cNvSpPr/>
            <p:nvPr/>
          </p:nvSpPr>
          <p:spPr>
            <a:xfrm>
              <a:off x="1754280" y="3721320"/>
              <a:ext cx="11088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7"/>
            <p:cNvSpPr/>
            <p:nvPr/>
          </p:nvSpPr>
          <p:spPr>
            <a:xfrm>
              <a:off x="1754280" y="3721320"/>
              <a:ext cx="11088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8"/>
            <p:cNvSpPr/>
            <p:nvPr/>
          </p:nvSpPr>
          <p:spPr>
            <a:xfrm>
              <a:off x="1746000" y="3760560"/>
              <a:ext cx="12816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9"/>
            <p:cNvSpPr/>
            <p:nvPr/>
          </p:nvSpPr>
          <p:spPr>
            <a:xfrm>
              <a:off x="1746720" y="369108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0"/>
            <p:cNvSpPr/>
            <p:nvPr/>
          </p:nvSpPr>
          <p:spPr>
            <a:xfrm>
              <a:off x="1746720" y="369108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1"/>
            <p:cNvSpPr/>
            <p:nvPr/>
          </p:nvSpPr>
          <p:spPr>
            <a:xfrm>
              <a:off x="1755720" y="3697200"/>
              <a:ext cx="11088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2"/>
            <p:cNvSpPr/>
            <p:nvPr/>
          </p:nvSpPr>
          <p:spPr>
            <a:xfrm>
              <a:off x="1755720" y="3697200"/>
              <a:ext cx="11088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3"/>
            <p:cNvSpPr/>
            <p:nvPr/>
          </p:nvSpPr>
          <p:spPr>
            <a:xfrm>
              <a:off x="1747080" y="3736800"/>
              <a:ext cx="12888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4"/>
            <p:cNvSpPr/>
            <p:nvPr/>
          </p:nvSpPr>
          <p:spPr>
            <a:xfrm>
              <a:off x="1743480" y="366984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5"/>
            <p:cNvSpPr/>
            <p:nvPr/>
          </p:nvSpPr>
          <p:spPr>
            <a:xfrm>
              <a:off x="1743480" y="366984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6"/>
            <p:cNvSpPr/>
            <p:nvPr/>
          </p:nvSpPr>
          <p:spPr>
            <a:xfrm>
              <a:off x="1752840" y="3676680"/>
              <a:ext cx="110520" cy="6552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7"/>
            <p:cNvSpPr/>
            <p:nvPr/>
          </p:nvSpPr>
          <p:spPr>
            <a:xfrm>
              <a:off x="1752840" y="3676680"/>
              <a:ext cx="110520" cy="6552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8"/>
            <p:cNvSpPr/>
            <p:nvPr/>
          </p:nvSpPr>
          <p:spPr>
            <a:xfrm>
              <a:off x="1744200" y="3715200"/>
              <a:ext cx="12816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9"/>
            <p:cNvSpPr/>
            <p:nvPr/>
          </p:nvSpPr>
          <p:spPr>
            <a:xfrm>
              <a:off x="1747080" y="3650400"/>
              <a:ext cx="130680" cy="7776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0"/>
            <p:cNvSpPr/>
            <p:nvPr/>
          </p:nvSpPr>
          <p:spPr>
            <a:xfrm>
              <a:off x="1747080" y="3650400"/>
              <a:ext cx="13068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1"/>
            <p:cNvSpPr/>
            <p:nvPr/>
          </p:nvSpPr>
          <p:spPr>
            <a:xfrm>
              <a:off x="1756800" y="3657240"/>
              <a:ext cx="110520" cy="6552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62"/>
            <p:cNvSpPr/>
            <p:nvPr/>
          </p:nvSpPr>
          <p:spPr>
            <a:xfrm>
              <a:off x="1756800" y="3657240"/>
              <a:ext cx="110520" cy="6552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3"/>
            <p:cNvSpPr/>
            <p:nvPr/>
          </p:nvSpPr>
          <p:spPr>
            <a:xfrm>
              <a:off x="1748520" y="3695760"/>
              <a:ext cx="12780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64"/>
            <p:cNvSpPr/>
            <p:nvPr/>
          </p:nvSpPr>
          <p:spPr>
            <a:xfrm>
              <a:off x="1744200" y="362952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5"/>
            <p:cNvSpPr/>
            <p:nvPr/>
          </p:nvSpPr>
          <p:spPr>
            <a:xfrm>
              <a:off x="1744200" y="362952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6"/>
            <p:cNvSpPr/>
            <p:nvPr/>
          </p:nvSpPr>
          <p:spPr>
            <a:xfrm>
              <a:off x="1753560" y="363600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7"/>
            <p:cNvSpPr/>
            <p:nvPr/>
          </p:nvSpPr>
          <p:spPr>
            <a:xfrm>
              <a:off x="1753560" y="363600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8"/>
            <p:cNvSpPr/>
            <p:nvPr/>
          </p:nvSpPr>
          <p:spPr>
            <a:xfrm>
              <a:off x="1745280" y="367488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9"/>
            <p:cNvSpPr/>
            <p:nvPr/>
          </p:nvSpPr>
          <p:spPr>
            <a:xfrm>
              <a:off x="1746000" y="360540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0"/>
            <p:cNvSpPr/>
            <p:nvPr/>
          </p:nvSpPr>
          <p:spPr>
            <a:xfrm>
              <a:off x="1746000" y="360540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71"/>
            <p:cNvSpPr/>
            <p:nvPr/>
          </p:nvSpPr>
          <p:spPr>
            <a:xfrm>
              <a:off x="1755000" y="3611880"/>
              <a:ext cx="110520" cy="662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2"/>
            <p:cNvSpPr/>
            <p:nvPr/>
          </p:nvSpPr>
          <p:spPr>
            <a:xfrm>
              <a:off x="1755000" y="3611880"/>
              <a:ext cx="11052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3"/>
            <p:cNvSpPr/>
            <p:nvPr/>
          </p:nvSpPr>
          <p:spPr>
            <a:xfrm>
              <a:off x="1746720" y="3650760"/>
              <a:ext cx="127800" cy="4068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74"/>
            <p:cNvSpPr/>
            <p:nvPr/>
          </p:nvSpPr>
          <p:spPr>
            <a:xfrm>
              <a:off x="1742760" y="3584160"/>
              <a:ext cx="130320" cy="7776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75"/>
            <p:cNvSpPr/>
            <p:nvPr/>
          </p:nvSpPr>
          <p:spPr>
            <a:xfrm>
              <a:off x="1742760" y="3584160"/>
              <a:ext cx="130320" cy="7776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6"/>
            <p:cNvSpPr/>
            <p:nvPr/>
          </p:nvSpPr>
          <p:spPr>
            <a:xfrm>
              <a:off x="1751760" y="3590640"/>
              <a:ext cx="110520" cy="6588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7"/>
            <p:cNvSpPr/>
            <p:nvPr/>
          </p:nvSpPr>
          <p:spPr>
            <a:xfrm>
              <a:off x="1751760" y="3590640"/>
              <a:ext cx="110520" cy="6588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8"/>
            <p:cNvSpPr/>
            <p:nvPr/>
          </p:nvSpPr>
          <p:spPr>
            <a:xfrm>
              <a:off x="1743480" y="363024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9"/>
            <p:cNvSpPr/>
            <p:nvPr/>
          </p:nvSpPr>
          <p:spPr>
            <a:xfrm>
              <a:off x="1740240" y="3564360"/>
              <a:ext cx="130320" cy="77400"/>
            </a:xfrm>
            <a:prstGeom prst="pie">
              <a:avLst/>
            </a:pr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0"/>
            <p:cNvSpPr/>
            <p:nvPr/>
          </p:nvSpPr>
          <p:spPr>
            <a:xfrm>
              <a:off x="1740240" y="3564360"/>
              <a:ext cx="130320" cy="77400"/>
            </a:xfrm>
            <a:prstGeom prst="pie">
              <a:avLst/>
            </a:pr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1"/>
            <p:cNvSpPr/>
            <p:nvPr/>
          </p:nvSpPr>
          <p:spPr>
            <a:xfrm>
              <a:off x="1749600" y="3570480"/>
              <a:ext cx="110520" cy="6624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82"/>
            <p:cNvSpPr/>
            <p:nvPr/>
          </p:nvSpPr>
          <p:spPr>
            <a:xfrm>
              <a:off x="1749600" y="3570480"/>
              <a:ext cx="110520" cy="66240"/>
            </a:xfrm>
            <a:prstGeom prst="pie">
              <a:avLst/>
            </a:pr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3"/>
            <p:cNvSpPr/>
            <p:nvPr/>
          </p:nvSpPr>
          <p:spPr>
            <a:xfrm>
              <a:off x="1741320" y="3609720"/>
              <a:ext cx="127800" cy="4032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4"/>
            <p:cNvSpPr/>
            <p:nvPr/>
          </p:nvSpPr>
          <p:spPr>
            <a:xfrm>
              <a:off x="1755000" y="3572280"/>
              <a:ext cx="98280" cy="62640"/>
            </a:xfrm>
            <a:prstGeom prst="pie">
              <a:avLst/>
            </a:pr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5"/>
            <p:cNvSpPr/>
            <p:nvPr/>
          </p:nvSpPr>
          <p:spPr>
            <a:xfrm>
              <a:off x="1774080" y="3571920"/>
              <a:ext cx="66600" cy="59760"/>
            </a:xfrm>
            <a:prstGeom prst="pie">
              <a:avLst/>
            </a:pr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6"/>
            <p:cNvSpPr/>
            <p:nvPr/>
          </p:nvSpPr>
          <p:spPr>
            <a:xfrm>
              <a:off x="1789200" y="3607200"/>
              <a:ext cx="20520" cy="61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7"/>
            <p:cNvSpPr/>
            <p:nvPr/>
          </p:nvSpPr>
          <p:spPr>
            <a:xfrm>
              <a:off x="1787760" y="3592440"/>
              <a:ext cx="21960" cy="50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8"/>
            <p:cNvSpPr/>
            <p:nvPr/>
          </p:nvSpPr>
          <p:spPr>
            <a:xfrm>
              <a:off x="1888200" y="3641040"/>
              <a:ext cx="366480" cy="1994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9"/>
            <p:cNvSpPr/>
            <p:nvPr/>
          </p:nvSpPr>
          <p:spPr>
            <a:xfrm>
              <a:off x="1888200" y="3641040"/>
              <a:ext cx="366480" cy="19944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0"/>
            <p:cNvSpPr/>
            <p:nvPr/>
          </p:nvSpPr>
          <p:spPr>
            <a:xfrm>
              <a:off x="1888200" y="3633120"/>
              <a:ext cx="366480" cy="1987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91"/>
            <p:cNvSpPr/>
            <p:nvPr/>
          </p:nvSpPr>
          <p:spPr>
            <a:xfrm>
              <a:off x="1888200" y="3633120"/>
              <a:ext cx="366480" cy="19872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92"/>
            <p:cNvSpPr/>
            <p:nvPr/>
          </p:nvSpPr>
          <p:spPr>
            <a:xfrm>
              <a:off x="1888200" y="3622680"/>
              <a:ext cx="366840" cy="1998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93"/>
            <p:cNvSpPr/>
            <p:nvPr/>
          </p:nvSpPr>
          <p:spPr>
            <a:xfrm>
              <a:off x="1888200" y="3622680"/>
              <a:ext cx="366840" cy="1998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4"/>
            <p:cNvSpPr/>
            <p:nvPr/>
          </p:nvSpPr>
          <p:spPr>
            <a:xfrm>
              <a:off x="1888200" y="3615120"/>
              <a:ext cx="366840" cy="1987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5"/>
            <p:cNvSpPr/>
            <p:nvPr/>
          </p:nvSpPr>
          <p:spPr>
            <a:xfrm>
              <a:off x="1888200" y="3615120"/>
              <a:ext cx="366840" cy="19872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6"/>
            <p:cNvSpPr/>
            <p:nvPr/>
          </p:nvSpPr>
          <p:spPr>
            <a:xfrm>
              <a:off x="1892160" y="3606840"/>
              <a:ext cx="367200" cy="1987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7"/>
            <p:cNvSpPr/>
            <p:nvPr/>
          </p:nvSpPr>
          <p:spPr>
            <a:xfrm>
              <a:off x="1892160" y="3606840"/>
              <a:ext cx="367200" cy="19872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8"/>
            <p:cNvSpPr/>
            <p:nvPr/>
          </p:nvSpPr>
          <p:spPr>
            <a:xfrm>
              <a:off x="1892160" y="3598560"/>
              <a:ext cx="367200" cy="1998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9"/>
            <p:cNvSpPr/>
            <p:nvPr/>
          </p:nvSpPr>
          <p:spPr>
            <a:xfrm>
              <a:off x="1892160" y="3598560"/>
              <a:ext cx="367200" cy="1998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0"/>
            <p:cNvSpPr/>
            <p:nvPr/>
          </p:nvSpPr>
          <p:spPr>
            <a:xfrm>
              <a:off x="1892520" y="3588840"/>
              <a:ext cx="366840" cy="199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1"/>
            <p:cNvSpPr/>
            <p:nvPr/>
          </p:nvSpPr>
          <p:spPr>
            <a:xfrm>
              <a:off x="1892520" y="3588840"/>
              <a:ext cx="366840" cy="19908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02"/>
            <p:cNvSpPr/>
            <p:nvPr/>
          </p:nvSpPr>
          <p:spPr>
            <a:xfrm>
              <a:off x="1892520" y="3580560"/>
              <a:ext cx="366840" cy="199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3"/>
            <p:cNvSpPr/>
            <p:nvPr/>
          </p:nvSpPr>
          <p:spPr>
            <a:xfrm>
              <a:off x="1892520" y="3580560"/>
              <a:ext cx="366840" cy="19908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4"/>
            <p:cNvSpPr/>
            <p:nvPr/>
          </p:nvSpPr>
          <p:spPr>
            <a:xfrm>
              <a:off x="1900440" y="3570480"/>
              <a:ext cx="366480" cy="200520"/>
            </a:xfrm>
            <a:prstGeom prst="pie">
              <a:avLst/>
            </a:pr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05"/>
            <p:cNvSpPr/>
            <p:nvPr/>
          </p:nvSpPr>
          <p:spPr>
            <a:xfrm>
              <a:off x="1922400" y="3579120"/>
              <a:ext cx="330120" cy="183960"/>
            </a:xfrm>
            <a:prstGeom prst="pie">
              <a:avLst/>
            </a:pr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6"/>
            <p:cNvSpPr/>
            <p:nvPr/>
          </p:nvSpPr>
          <p:spPr>
            <a:xfrm>
              <a:off x="1922400" y="3579120"/>
              <a:ext cx="330120" cy="18396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7"/>
            <p:cNvSpPr/>
            <p:nvPr/>
          </p:nvSpPr>
          <p:spPr>
            <a:xfrm>
              <a:off x="1948320" y="3685320"/>
              <a:ext cx="55440" cy="19080"/>
            </a:xfrm>
            <a:prstGeom prst="pi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8"/>
            <p:cNvSpPr/>
            <p:nvPr/>
          </p:nvSpPr>
          <p:spPr>
            <a:xfrm>
              <a:off x="1948320" y="3685320"/>
              <a:ext cx="55440" cy="1908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9"/>
            <p:cNvSpPr/>
            <p:nvPr/>
          </p:nvSpPr>
          <p:spPr>
            <a:xfrm>
              <a:off x="2028960" y="3721680"/>
              <a:ext cx="55440" cy="18720"/>
            </a:xfrm>
            <a:prstGeom prst="pi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0"/>
            <p:cNvSpPr/>
            <p:nvPr/>
          </p:nvSpPr>
          <p:spPr>
            <a:xfrm>
              <a:off x="2028960" y="3721680"/>
              <a:ext cx="55440" cy="1872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1"/>
            <p:cNvSpPr/>
            <p:nvPr/>
          </p:nvSpPr>
          <p:spPr>
            <a:xfrm>
              <a:off x="2139480" y="3594240"/>
              <a:ext cx="36720" cy="15840"/>
            </a:xfrm>
            <a:prstGeom prst="pi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12"/>
            <p:cNvSpPr/>
            <p:nvPr/>
          </p:nvSpPr>
          <p:spPr>
            <a:xfrm>
              <a:off x="2139480" y="3594240"/>
              <a:ext cx="36720" cy="1584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3"/>
            <p:cNvSpPr/>
            <p:nvPr/>
          </p:nvSpPr>
          <p:spPr>
            <a:xfrm>
              <a:off x="2192040" y="3618720"/>
              <a:ext cx="36720" cy="15840"/>
            </a:xfrm>
            <a:prstGeom prst="pi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4"/>
            <p:cNvSpPr/>
            <p:nvPr/>
          </p:nvSpPr>
          <p:spPr>
            <a:xfrm>
              <a:off x="2192040" y="3618720"/>
              <a:ext cx="36720" cy="1584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15"/>
            <p:cNvSpPr/>
            <p:nvPr/>
          </p:nvSpPr>
          <p:spPr>
            <a:xfrm>
              <a:off x="2054520" y="3630600"/>
              <a:ext cx="111960" cy="52560"/>
            </a:xfrm>
            <a:prstGeom prst="pie">
              <a:avLst/>
            </a:pr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6"/>
            <p:cNvSpPr/>
            <p:nvPr/>
          </p:nvSpPr>
          <p:spPr>
            <a:xfrm>
              <a:off x="2054520" y="3630600"/>
              <a:ext cx="111960" cy="5256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7"/>
            <p:cNvSpPr/>
            <p:nvPr/>
          </p:nvSpPr>
          <p:spPr>
            <a:xfrm>
              <a:off x="2065320" y="3636720"/>
              <a:ext cx="92880" cy="43560"/>
            </a:xfrm>
            <a:prstGeom prst="pi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8"/>
            <p:cNvSpPr/>
            <p:nvPr/>
          </p:nvSpPr>
          <p:spPr>
            <a:xfrm>
              <a:off x="2065320" y="3636720"/>
              <a:ext cx="92880" cy="4356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9"/>
            <p:cNvSpPr/>
            <p:nvPr/>
          </p:nvSpPr>
          <p:spPr>
            <a:xfrm>
              <a:off x="2072880" y="3639960"/>
              <a:ext cx="51480" cy="248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0"/>
            <p:cNvSpPr/>
            <p:nvPr/>
          </p:nvSpPr>
          <p:spPr>
            <a:xfrm>
              <a:off x="2110680" y="3670200"/>
              <a:ext cx="23400" cy="61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1"/>
            <p:cNvSpPr/>
            <p:nvPr/>
          </p:nvSpPr>
          <p:spPr>
            <a:xfrm>
              <a:off x="2107440" y="3647160"/>
              <a:ext cx="7920" cy="2880"/>
            </a:xfrm>
            <a:prstGeom prst="pie">
              <a:avLst/>
            </a:pr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22"/>
            <p:cNvSpPr/>
            <p:nvPr/>
          </p:nvSpPr>
          <p:spPr>
            <a:xfrm flipH="1">
              <a:off x="2115360" y="3652200"/>
              <a:ext cx="972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3"/>
            <p:cNvSpPr/>
            <p:nvPr/>
          </p:nvSpPr>
          <p:spPr>
            <a:xfrm>
              <a:off x="2097360" y="3658680"/>
              <a:ext cx="50400" cy="115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24"/>
            <p:cNvSpPr/>
            <p:nvPr/>
          </p:nvSpPr>
          <p:spPr>
            <a:xfrm>
              <a:off x="2043360" y="3681000"/>
              <a:ext cx="38880" cy="19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5"/>
            <p:cNvSpPr/>
            <p:nvPr/>
          </p:nvSpPr>
          <p:spPr>
            <a:xfrm>
              <a:off x="1625400" y="3737160"/>
              <a:ext cx="345960" cy="1965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6"/>
            <p:cNvSpPr/>
            <p:nvPr/>
          </p:nvSpPr>
          <p:spPr>
            <a:xfrm>
              <a:off x="1625400" y="3737160"/>
              <a:ext cx="345960" cy="19656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7"/>
            <p:cNvSpPr/>
            <p:nvPr/>
          </p:nvSpPr>
          <p:spPr>
            <a:xfrm>
              <a:off x="1625400" y="3728880"/>
              <a:ext cx="345240" cy="1962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8"/>
            <p:cNvSpPr/>
            <p:nvPr/>
          </p:nvSpPr>
          <p:spPr>
            <a:xfrm>
              <a:off x="1625400" y="3728880"/>
              <a:ext cx="345240" cy="1962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9"/>
            <p:cNvSpPr/>
            <p:nvPr/>
          </p:nvSpPr>
          <p:spPr>
            <a:xfrm>
              <a:off x="1624680" y="3718440"/>
              <a:ext cx="345600" cy="1958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30"/>
            <p:cNvSpPr/>
            <p:nvPr/>
          </p:nvSpPr>
          <p:spPr>
            <a:xfrm>
              <a:off x="1624680" y="3718440"/>
              <a:ext cx="345600" cy="19584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31"/>
            <p:cNvSpPr/>
            <p:nvPr/>
          </p:nvSpPr>
          <p:spPr>
            <a:xfrm>
              <a:off x="1624680" y="3709440"/>
              <a:ext cx="345600" cy="1962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32"/>
            <p:cNvSpPr/>
            <p:nvPr/>
          </p:nvSpPr>
          <p:spPr>
            <a:xfrm>
              <a:off x="1624680" y="3709440"/>
              <a:ext cx="345600" cy="1962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33"/>
            <p:cNvSpPr/>
            <p:nvPr/>
          </p:nvSpPr>
          <p:spPr>
            <a:xfrm>
              <a:off x="1620360" y="3701520"/>
              <a:ext cx="345240" cy="1958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4"/>
            <p:cNvSpPr/>
            <p:nvPr/>
          </p:nvSpPr>
          <p:spPr>
            <a:xfrm>
              <a:off x="1620360" y="3701520"/>
              <a:ext cx="345240" cy="19584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35"/>
            <p:cNvSpPr/>
            <p:nvPr/>
          </p:nvSpPr>
          <p:spPr>
            <a:xfrm>
              <a:off x="1620000" y="3692520"/>
              <a:ext cx="345600" cy="1962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6"/>
            <p:cNvSpPr/>
            <p:nvPr/>
          </p:nvSpPr>
          <p:spPr>
            <a:xfrm>
              <a:off x="1620000" y="3692520"/>
              <a:ext cx="345600" cy="1962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7"/>
            <p:cNvSpPr/>
            <p:nvPr/>
          </p:nvSpPr>
          <p:spPr>
            <a:xfrm>
              <a:off x="1619280" y="3682440"/>
              <a:ext cx="346320" cy="1962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8"/>
            <p:cNvSpPr/>
            <p:nvPr/>
          </p:nvSpPr>
          <p:spPr>
            <a:xfrm>
              <a:off x="1619280" y="3682440"/>
              <a:ext cx="346320" cy="1962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9"/>
            <p:cNvSpPr/>
            <p:nvPr/>
          </p:nvSpPr>
          <p:spPr>
            <a:xfrm>
              <a:off x="1619280" y="3673800"/>
              <a:ext cx="345600" cy="1962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40"/>
            <p:cNvSpPr/>
            <p:nvPr/>
          </p:nvSpPr>
          <p:spPr>
            <a:xfrm>
              <a:off x="1619280" y="3673800"/>
              <a:ext cx="345600" cy="196200"/>
            </a:xfrm>
            <a:prstGeom prst="pie">
              <a:avLst/>
            </a:pr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0" name="Object 3"/>
          <p:cNvGraphicFramePr/>
          <p:nvPr/>
        </p:nvGraphicFramePr>
        <p:xfrm>
          <a:off x="7731000" y="4303800"/>
          <a:ext cx="52416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1000" y="4303800"/>
                    <a:ext cx="5241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AutoShape 244"/>
          <p:cNvSpPr/>
          <p:nvPr/>
        </p:nvSpPr>
        <p:spPr>
          <a:xfrm rot="3117000">
            <a:off x="4179600" y="3846600"/>
            <a:ext cx="2303280" cy="576000"/>
          </a:xfrm>
          <a:prstGeom prst="leftRightArrow">
            <a:avLst>
              <a:gd name="adj1" fmla="val 50000"/>
              <a:gd name="adj2" fmla="val 86584"/>
            </a:avLst>
          </a:prstGeom>
          <a:solidFill>
            <a:srgbClr val="993366"/>
          </a:solidFill>
          <a:ln w="0">
            <a:noFill/>
          </a:ln>
          <a:effectLst>
            <a:outerShdw dist="107932" dir="18900000" blurRad="0" rotWithShape="0">
              <a:srgbClr val="7476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5043600" y="3770280"/>
          <a:ext cx="55080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3600" y="3770280"/>
                    <a:ext cx="5508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6A9F-448B-4656-84A5-2B71CA6C4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052640"/>
            <a:ext cx="761184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วาระ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.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กฎ ก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ว่าด้วย การเลื่อนขั้นเงินเดือน พ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ศ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2544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6F8-6EE4-4815-86F6-1896ED462E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กฎ 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ว่าด้วยการเลื่อนขั้นเงิน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6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้อ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ให้ผู้บังคับบัญชาและผู้ที่ได้รับมอบหมายประเมินประสิทธิภาพและประสิทธิผลการปฏิบัติงานของข้าราชการพลเรือนสามัญปีล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ครั้ง ตามหลักเกณฑ์และวิธีการที่ 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กำหน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้อ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้าราชการพลเรือนสามัญซึ่งจะได้รับการพิจารณาเลื่อนขั้นเงินเดือน </a:t>
            </a: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</a:rPr>
              <a:t>ครึ่งขั้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0.5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ั้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ในแต่ละครั้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้อ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้าราชการพลเรือนสามัญซึ่งจะได้รับการพิจารณาเลื่อนขั้นเงินเดือน </a:t>
            </a: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</a:rPr>
              <a:t>หนึ่งขั้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ขั้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ในแต่ละครั้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D48-9FDF-4DCE-9BAE-0E6940632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ไม่ถูกสั่งพักราชการเกิน </a:t>
            </a:r>
            <a:r>
              <a:rPr b="1" lang="en-US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2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เดื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ไม่ขาดราชการโดยไม่มีเหตุอันคว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ไม่ลา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สาย เกินจำนวนครั้งที่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ลาไม่เกิน </a:t>
            </a:r>
            <a:r>
              <a:rPr b="1" lang="en-US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23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วันทำการ โดยไม่รวมลาอุปสมบท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คลอดบุตร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ป่วยจำเป็น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ป่วยประสบอันตราย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พักผ่อน 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ตรวจเลือก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เตรียมพล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ea typeface="FreesiaUPC"/>
              </a:rPr>
              <a:t>/ </a:t>
            </a: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ทำงานองค์การระหว่างประเท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FreesiaUPC"/>
                <a:cs typeface="FreesiaUPC"/>
              </a:rPr>
              <a:t>ผู้มีสิทธิ์ได้รับการพิจารณาเลื่อนเงิน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338-6029-41B3-8F43-3B720029AA81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9DF-74D0-4712-B56E-A708BB803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ลักเกณฑ์และเงื่อนไขอื่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F24-6499-4EC6-BCB2-C74D243EEFCB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68360" y="1700280"/>
            <a:ext cx="69120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18900000" blurRad="0" rotWithShape="0">
              <a:srgbClr val="699de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ffff66"/>
                </a:solidFill>
                <a:latin typeface="Arial"/>
              </a:rPr>
              <a:t>สงสัยว่ากระทำผิด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1" lang="th-TH" sz="3200" spc="-1" strike="noStrike">
                <a:solidFill>
                  <a:srgbClr val="ffff66"/>
                </a:solidFill>
                <a:latin typeface="Arial"/>
              </a:rPr>
              <a:t>รอเลื่อนเงินเดือนไว้ก่อนและกันเงินไว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68360" y="2492280"/>
            <a:ext cx="8351640" cy="5730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ำงานไม่น้อยกว่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ดือน จึงเลื่อนเงินเดือนได้ 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ยกเว้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ลาศึกษ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บรม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ตามหลักสูตรที่ อ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ำงานไม่น้อยกว่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4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ดือน เสียชีวิต ให้เลื่อนเงินเดือนได้ในวันก่อนเสียชีวิ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กษียณอายุราชการ เลื่อนเงินเดือนในวันที่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ทำงานองค์การระหว่างประเทศ รอเลื่อนเงินเดือนไว้ก่อน กลับมาแล้ว  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เลื่อนย้อนหลังในอัตราร้อยละ 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B9AB-9C6A-48E4-A624-B369D273E2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640" y="1844280"/>
            <a:ext cx="86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วาระที่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.4 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ข้อมูลข้าราชการและลูกจ้างประจำ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45F-BEA1-4DCE-B93E-38E2A6DA5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19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ระเบียบวาระที่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1" lang="hi-IN" sz="5400" spc="-1" strike="noStrike">
                <a:solidFill>
                  <a:srgbClr val="ffffff"/>
                </a:solidFill>
                <a:latin typeface="Arial"/>
              </a:rPr>
              <a:t>เรื่องพิจารณ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059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การแต่งตั้งคณะกรรมการพิจารณาโควตาเลื่อนขั้นเงินเดือนข้าราชการ และลูกจ้างประจำส่วนภูมิภาคจังหวัดเชียงใหม่ โดยฝ่ายเลขานุการ ได้เสนอร่างให้ที่ประชุมพิจารณา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การจัดสรรโควตาเลื่อนขั้นเงิน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08-F008-4A30-80E8-5A0461F2AD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1" lang="th-TH" sz="3500" spc="-1" strike="noStrike">
                <a:solidFill>
                  <a:srgbClr val="ffffff"/>
                </a:solidFill>
                <a:latin typeface="Arial"/>
              </a:rPr>
              <a:t>คณะกรรมการพิจารณาโควตา ประกอบด้วย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ผวจ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ชม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เป็นประธา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รอง ผวจ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ชม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  3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ท่าน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ปลัดจังหวัด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นายแพทย์สาธารณสุข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เกษตรและสหกรณ์จังหวัด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คลังจังหวัด 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หัวหน้าสำนักงานจังหวัด 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หัวหน้ากลุ่มบริหารทรัพยากรบุคคล   เป็นกรรมกา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D46-AA4C-4D20-9D15-322382DB0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5280" y="66672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105264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1125360"/>
            <a:ext cx="842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ารจัดสรรโควตาเลื่อนขั้นเงินเดือ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ประชุมพิจารณาจัดสรรโควตาฯ โดยอาศัยมติ ครม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ด้านการบริหารงานบุคคลให้ ผวจ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เพื่อใช้ในการบริหารงานแบบบูรณาการได้อย่างมีมีประสิทธิภาพ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การพิจารณาโควตา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ให้ส่วนราชการพิจารณา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ส่งคืนให้จังหวัด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%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6AC-1078-4E29-B346-46A0233BC15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5280" y="66672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105264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112536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Arial"/>
              </a:rPr>
              <a:t>ส่งคืนให้จังหวัด </a:t>
            </a:r>
            <a:r>
              <a:rPr b="1" lang="th-TH" sz="35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เพื่อจัดสรรให้แก่ส่วนราชการที่ ปฏิบัติภารกิจสนับสนุนการบริหารจังหวัดแบบบูรณาการ มีผลงานดีเด่นเป็นที่ประจักษ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จัดสรรให้แก่หน่วยงานที่มีข้าราชการไม่ถึง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th-TH" sz="3500" spc="-1" strike="noStrike">
                <a:solidFill>
                  <a:srgbClr val="ffffff"/>
                </a:solidFill>
                <a:latin typeface="Arial"/>
              </a:rPr>
              <a:t>ค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A04-5ED9-4A45-893A-048755A0B6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5114880"/>
            <a:ext cx="914400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00"/>
              </a:buClr>
              <a:buFont typeface="Eucro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 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จำแนกกลุ่มตำแหน่งเป็น </a:t>
            </a: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4 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ประเภท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Font typeface="Eucro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 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แต่ละกลุ่มมีการแบ่งระดับตามค่างาน</a:t>
            </a: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/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โครงสร้างการทำงานในองค์กร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Font typeface="Eucro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 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มีบัญชีเงินเดือนพื้นฐานแยกแต่ละกลุ่ม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Font typeface="Eucro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EucrosiaUPC"/>
                <a:ea typeface="AngsanaUPC"/>
              </a:rPr>
              <a:t> </a:t>
            </a:r>
            <a:r>
              <a:rPr b="1" lang="hi-IN" sz="3100" spc="-1" strike="noStrike">
                <a:solidFill>
                  <a:srgbClr val="ffff00"/>
                </a:solidFill>
                <a:latin typeface="EucrosiaUPC"/>
                <a:cs typeface="AngsanaUPC"/>
              </a:rPr>
              <a:t>กำหนดชื่อเรียกระดับตำแหน่งแทนตัวเล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8720" y="374184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ปฏิบัติง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309888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ชำนาญง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2517840"/>
            <a:ext cx="1800360" cy="576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อาวุโ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187488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ทักษะพิเศ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4720" y="3765600"/>
            <a:ext cx="1800360" cy="671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ปฏิบัติ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4720" y="309888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ชำนาญ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720" y="2120760"/>
            <a:ext cx="1800360" cy="974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ชำนาญ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พิเศ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4720" y="151452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เชี่ยวชา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4720" y="87156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ทรงคุณวุฒ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61080" y="3747960"/>
            <a:ext cx="1800000" cy="6447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ระดับต้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61080" y="3097080"/>
            <a:ext cx="1800000" cy="6447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ระดับสู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374328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ระดับต้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3094200"/>
            <a:ext cx="1800360" cy="64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EucrosiaUPC"/>
              </a:rPr>
              <a:t>ระดับสู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402080"/>
            <a:ext cx="1800360" cy="71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EucrosiaUPC"/>
              </a:rPr>
              <a:t>ทั่วไ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4403880"/>
            <a:ext cx="1800000" cy="71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EucrosiaUPC"/>
              </a:rPr>
              <a:t>วิชากา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408560"/>
            <a:ext cx="1800360" cy="71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EucrosiaUPC"/>
              </a:rPr>
              <a:t>อำนวยกา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6920" y="4403880"/>
            <a:ext cx="1800360" cy="71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EucrosiaUPC"/>
              </a:rPr>
              <a:t>บริหา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080"/>
            <a:ext cx="9144000" cy="71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EucrosiaUPC"/>
              </a:rPr>
              <a:t>โครงสร้างระดับตำแหน่งและประเภทตำแหน่ง ม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EucrosiaUPC"/>
              </a:rPr>
              <a:t>.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07D-485C-4B74-AC60-5EC37813DC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ข้อกฎหมาย </a:t>
            </a:r>
            <a:r>
              <a:rPr b="1" lang="en-US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: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พรบ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ระเบียบ ขรก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พลเรือน ๒๕๕๑</a:t>
            </a:r>
            <a:r>
              <a:rPr b="1" lang="en-US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ต่อ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มาตรา ๗๔  ข้าราชการพลเรือนสามัญผู้ใดประพฤติตนอยู่ในจรรยาและระเบียบวินัยและปฏิบัติราชการอย่างมีประสิทธิภาพและเกิดผลสัมฤทธิ์ต่อภารกิจของรัฐ  ให้ผู้บังคับบัญชาพิจารณาเลื่อนเงินเดือนให้ตามควรแก่กรณีตามที่กำหนดในกฎ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และจะให้บำเหน็จความชอบอย่างอื่น ซึ่งอาจเป็นคำชมเชย เครื่องเชิดชูเกียรติ หรือรางวัล ด้วยก็ได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มาตรา ๗๖  ให้ผู้บังคับบัญชามีหน้าที่ประเมินผลการปฏิบัติราชการของผู้อยู่ใต้บังคับบัญชาเพื่อใช้ประกอบการพิจารณาแต่งตั้ง และเลื่อนเงินเดือน  ทั้งนี้ ตามหลักเกณฑ์และวิธีการที่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กำหน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ผลการประเมินตามวรรคหนึ่งให้นำไปใช้เพื่อประโยชน์ในการพัฒนาและเพิ่มพูนประสิทธิภาพการปฏิบัติราชการด้ว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56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98FA-61C6-4C87-922E-C0976B607ED1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0B9-0C04-4DE5-8BE7-E92B0D058D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ข้อกฎหมาย </a:t>
            </a:r>
            <a:r>
              <a:rPr b="1" lang="en-US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: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พรบ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ระเบียบ ขรก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พลเรือน ๒๕๕๑</a:t>
            </a:r>
            <a:r>
              <a:rPr b="1" lang="en-US" sz="4000" spc="-1" strike="noStrike">
                <a:solidFill>
                  <a:srgbClr val="000000"/>
                </a:solidFill>
                <a:latin typeface="FreesiaUPC"/>
                <a:ea typeface="Freesia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cs typeface="FreesiaUPC"/>
              </a:rPr>
              <a:t>ต่อ</a:t>
            </a:r>
            <a:r>
              <a:rPr b="1" lang="th-TH" sz="4000" spc="-1" strike="noStrike">
                <a:solidFill>
                  <a:srgbClr val="ffffff"/>
                </a:solidFill>
                <a:latin typeface="FreesiaUPC"/>
                <a:ea typeface="FreesiaUP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256536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มาตรา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132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ในระหว่างที่มิได้ตรา พรฎ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หรือ ออก กฎ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ฯล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เพื่อปฏิบัติตาม พรบ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นี้ ให้นำ พรฎ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กฎ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ฯลฯ ที่กำหนดไว้แล้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ซึ่งใช้อยู่เดิมมาใช้บังคับเท่าที่ไม่ขัดหรือแย้ง กับ พรบ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นี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        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ในกรณีที่ไม่อาจนำ พรฎ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หรือ กฎ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มาใช้บังคับได้ตามวรรคหนึ่ง การดำเนินการประการใดให้เป็นไปตามที่ ก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พ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ea typeface="FreesiaUPC"/>
              </a:rPr>
              <a:t>. </a:t>
            </a:r>
            <a:r>
              <a:rPr b="1" lang="th-TH" sz="3000" spc="-1" strike="noStrike">
                <a:solidFill>
                  <a:srgbClr val="ffffff"/>
                </a:solidFill>
                <a:latin typeface="FreesiaUPC"/>
                <a:cs typeface="FreesiaUPC"/>
              </a:rPr>
              <a:t>กำหน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621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43B9-7516-430B-839F-F55D0EDCE3F5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333-E1C5-4ECC-8770-DE33284D4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684360" y="1125360"/>
            <a:ext cx="79358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วาระที่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2.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หนังสือสำนักงาน ก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ด่วนที่สุด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ที่ นร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1012/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ว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5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ลว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7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5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DF6-2996-4ABB-A90A-B8EB95AC5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68360" y="765000"/>
            <a:ext cx="821052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กำหนดตารางการเลื่อนเงินเดือนชั่วคราว    โดยนำฐานเงินเดือนคือ อัตราที่ได้รับอยู่ก่อนวันที่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เม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ย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 52 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และเลื่อน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0.5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ขั้น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ขั้น 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.5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ขั้น แล้วแต่กรณี ถ้าไม่ตรงฐานให้เทียบไม่ตำกว่าเงินเดือนที่ได้รั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การเลื่อนฯ ครึ่งปีแรก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เม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ย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)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เลื่อน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ขั้น ไม่เกิน ร้อยละ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5 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ของจำนวนข้าราชการ ณ 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มี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hi-IN" sz="46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en-US" sz="4600" spc="-1" strike="noStrike">
                <a:solidFill>
                  <a:srgbClr val="ffffff"/>
                </a:solidFill>
                <a:latin typeface="Angsana New"/>
              </a:rPr>
              <a:t>.5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FA-E9AE-4FAD-9E96-610761FD0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00040" y="404640"/>
            <a:ext cx="84297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3.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ารแบ่งกลุ่มข้าราชการเป็น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ลุ่มที่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ได้แก่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ทั่วไป ระดับปฏิบัติงาน ระดับชำนาญงาน ระดับอาวุโ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วิชาการ ระดับปฏิบัติการ ชำนาญการ และชำนาญการพิเศ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อำนวยการ ระดับต้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B3C-E71F-4301-BEC7-706B289A30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00040" y="404640"/>
            <a:ext cx="8429760" cy="78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3.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ารแบ่งกลุ่มข้าราชการเป็น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ต่อ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กลุ่มที่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ได้แก่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ทั่วไป ระดับทักษะพิเศ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วิชาการ ระดับเชี่ยวชาญ ทรงคุณวุฒ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อำนวยการ ระดับสู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633240" algn="ctr"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</a:rPr>
              <a:t>ประเภท  บริหาร ระดับต้น และระดับสู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828-B1C1-4BF2-94C8-D55E3CC86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8360" y="765000"/>
            <a:ext cx="8210520" cy="84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4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ผวจ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ป็นผู้มีอำนาจสั่งเลื่อนเงินเดือนข้าราชการในราชการส่วนภูมิภาค ประเภททั่วไป ระดับปฏิบัติงาน ชำนาญงาน และดับอาวุโส ประเภทวิชาการระดับปฏิบัติการ ชำนาญการ และชำนาญการพิเศ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สำหรับประเภทอำนวยการ ระดับต้น พิจารณาโควตาแล้วส่งต้นสังกัดสั่งเลื่อน ตามมติ ครม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มื่อวันที่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22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ค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46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การมอบอำนาจด้านการบริหารงานบุคคลให้ ผู้ว่าราชการจังหวัด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D71-788C-4F55-A269-A3E0040C6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4:11:36Z</dcterms:created>
  <dc:creator>ocsc</dc:creator>
  <dc:description/>
  <dc:language>en-US</dc:language>
  <cp:lastModifiedBy>User</cp:lastModifiedBy>
  <cp:lastPrinted>2006-02-15T04:39:04Z</cp:lastPrinted>
  <dcterms:modified xsi:type="dcterms:W3CDTF">2009-03-27T06:24:06Z</dcterms:modified>
  <cp:revision>298</cp:revision>
  <dc:subject/>
  <dc:title>ภาพนิ่ง 1</dc:title>
</cp:coreProperties>
</file>