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096-EC48-4145-A496-58BB24F8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662-0A0C-4AE9-953B-E4D268E9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F78-D39B-4867-8827-EEA7F04B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C8F-6F64-4E6D-8AFC-FD512865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C11C-ADFD-45D8-951E-156573BA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5B7D-785C-4C22-BDAB-18FF7B25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E85C-35CA-4C29-957F-6FC01822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728B-7EDE-4894-AC4E-B6ACA3CB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2861-F0D6-45D5-9F56-56632CBD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4DC0-CE77-4489-8F5D-DED124BB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5F25-1013-4F26-AD8E-FDB9DA74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D8D-4321-4874-AAC5-D681DB1E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4301-B7E5-4647-8E41-A619DD9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E1D7-ADBD-4263-855A-33ACEB6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D01D-48F3-4427-83A3-DDE39FEC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4FB4-1A1E-4218-8645-A3C1AD9A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544B-AD05-47C2-BD09-C1CA47E1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1C6-1812-4BCF-9864-556166D7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C60-03EB-4EC2-A8BE-EB05C370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6EB-C8F1-4DE5-9210-BE0F41B1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AC6-16C1-4513-81C6-D20AC6A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D3B-5CEE-452A-85F4-1C5D1C4F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A46-CA3D-4FCE-99C0-3247B3D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E09-E179-4B21-A829-43E9F80E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383-FE1B-466D-88A2-52077D97F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07D2-6656-40C2-94A2-2DD4C4296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24000" y="739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</a:rPr>
              <a:t>นายอมรพันธุ์  นิมานันท์</a:t>
            </a:r>
            <a:br>
              <a:rPr sz="3600"/>
            </a:br>
            <a:r>
              <a:rPr b="1" lang="th-TH" sz="3600" spc="-1" strike="noStrike">
                <a:solidFill>
                  <a:srgbClr val="ffff00"/>
                </a:solidFill>
                <a:latin typeface="Arial"/>
              </a:rPr>
              <a:t>ผู้ว่าราชการจังหวัดเชียงใหม่ 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</a:rPr>
              <a:t>(16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</a:rPr>
              <a:t>มีนาคม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</a:rPr>
              <a:t>2552)</a:t>
            </a:r>
            <a:br>
              <a:rPr sz="3600"/>
            </a:b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ย้ายมาจาก </a:t>
            </a:r>
            <a:r>
              <a:rPr b="0" lang="th-TH" sz="3200" spc="-1" strike="noStrike">
                <a:solidFill>
                  <a:srgbClr val="ffffcc"/>
                </a:solidFill>
                <a:latin typeface="Arial"/>
              </a:rPr>
              <a:t>ผู้ว่าราชการจังหวัดลำปา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1987560" cy="266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5640" y="2637000"/>
            <a:ext cx="6624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rial"/>
              </a:rPr>
              <a:t>การทำงาน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2544 – 254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แพร่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2546 – 254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อุทัยธาน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2548 – 2549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ตาก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2549 –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2550  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เชียงราย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1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ต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2550 – 5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2551       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รองอธิบดีกรมการปกครอง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6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2551 – 19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ต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2551      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ลำพูน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20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ต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2551 – 15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ม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2552     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ผู้ว่าราชการจังหวัดลำป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55640" y="2637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11988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แนวทางการปฏิบัติราชการของผู้ว่าราชการจังหวัดเชียงให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นายอมรพันธุ์  นิมานันท์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มื่อวันจันทร์ที่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มีนาคม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25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806040"/>
            <a:ext cx="877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ข้อมูลที่ถูกต้องและรวดเร็ว คือ การรายงาน ให้รายงานเหตุดังกล่าวที่เกิดขึ้นโดยทางโทรศัพท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หรือ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S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ถึงผู้ว่าราชการจังหวัดเชียงใหม่  อย่ารอเพื่อจะรายงานเป็นลายลักษณ์อักษ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ให้สำนักงานจังหวัดเชียงใหม่ จัดทำกำหนดการเพื่อตรวจเยี่ยมและรับฟังบรรยายสรุปของส่วนราชการ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หน่วยงาน  องค์การบริหารส่วนจังหวัดเชียงใหม่ และเทศบาลนครเชียงใหม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รวมทั้งสถานที่สำคัญต่าง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กลุ่มภารกิจต่างๆ จำเป็นต้องปรับโครงสร้างจาก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กลุ่มภารกิจ เป็น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กลุ่มภารกิ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แต่ก็ให้ประธานกลุ่มภารกิจ  และเลขานุการกลุ่มภารกิจทำงานอย่างต่อเนื่อ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สถานการณ์การข่าว ขอให้รองผู้อำนวยการรักษาความมั่นคงภายในจังหวัดเชียงใหม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ฝ่ายทห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ช่วยเหลือดูแ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63640" y="11988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แนวทางการปฏิบัติราชการของผู้ว่าราชการจังหวัดเชียงให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นายอมรพันธุ์  นิมานันท์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มื่อวันจันทร์ที่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มีนาคม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2552 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721520" y="1666080"/>
            <a:ext cx="12711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โครงการหรือกิจกรรมต่างๆ ที่ผู้ว่าราชการจังหวัดเชียงใหม่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นายวิชัย  ศรีขวัญ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นายวิบูลย์  สงวนพงศ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ได้ดำเนินการมา หากเป็นประโยชน์ต่อส่วนรว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ดำเนินการต่อไปอย่างต่อเนื่อง แต่หากมีปัญหาประการใด จะได้ปรับปรุงแก้ไขให้ดีขึ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การเบิกจ่ายงบประมาณ ให้เร่งรัดการเบิกจ่าย โดยเฉพาะองค์กรปกครองส่วนท้องถิ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การป้องกันอุบัติภัยช่วงเทศกาลสงกรานต์ ให้สำนักงานป้องกันและบรรเทาสาธารณภั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จังหวัดเชียงใหม่เร่งดำเนินการวางแผนและหาจุดอ่อนเพื่อแก้ไ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กรณีการนำสายไฟฟ้าลงสู่อุโมงค์ในถนนท่าแพและถนนช้างคลาน ให้สำนักงานจังหวัดเชียงใหม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สำนักงานส่งเสริมการปกครองท้องถิ่นจังหวัดเชียงใหม่ และเทศบาลนครเชียงใหม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ร่วมกันหาทางแก้ไ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3:42:10Z</dcterms:created>
  <dc:creator>Momo</dc:creator>
  <dc:description/>
  <dc:language>en-US</dc:language>
  <cp:lastModifiedBy>ponglikit</cp:lastModifiedBy>
  <dcterms:modified xsi:type="dcterms:W3CDTF">2009-03-26T21:10:25Z</dcterms:modified>
  <cp:revision>10</cp:revision>
  <dc:subject/>
  <dc:title>Slide 1</dc:title>
</cp:coreProperties>
</file>