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A2E-55E2-4BEE-AB5B-8BE50128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2AC-F328-4A41-9458-30A8D1F4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C1A-A3A3-49F0-A9D4-D8628A70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997-F3F6-44CD-933D-77C53CA1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83C6-07C1-4B1E-ACFA-BA990A47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C0E0-7199-44D5-AFE4-B2C86F96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3BFA-9009-4CAA-AACC-BA01C5F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345A-F531-4B15-9B4E-617F527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8097-FB83-4F40-9E1A-02872335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73A-8F75-4642-819C-986895BC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77C6-D94D-4D04-86E2-C04CEA6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F07-D72C-4DA0-B99B-DB16156D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5DA4-4172-487C-8C22-DBFFE1C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25F-F32C-44F5-B601-B3280512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1890-93E1-4B83-B9DF-B33A97F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1389-DAF3-4C43-AE96-A2D38884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1648-0CD2-4F84-85BE-D3BA1069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12E-5550-4FA9-90CE-0AB9709B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892-9BE2-4CED-96D8-BA68F05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5B2-B608-4140-85E7-A509CE11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A6D-FB9F-4E9D-956B-0EF43474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5C3-4A0C-4074-AA2B-509B42FE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531-CD37-4A0A-BDCF-077D7AED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0DA-46B2-4039-AF88-720DC10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C2F8-E982-4908-9EA1-F6BC315C8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8C1-85EC-4516-A82A-1D4183428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eec94"/>
                </a:solidFill>
                <a:latin typeface="Times New Roman"/>
              </a:rPr>
              <a:t>ขอเชิญร่วมงานมหกรรมวิชาการ</a:t>
            </a:r>
            <a:br>
              <a:rPr sz="5500"/>
            </a:br>
            <a:r>
              <a:rPr b="1" lang="hi-IN" sz="5500" spc="-1" strike="noStrike">
                <a:solidFill>
                  <a:srgbClr val="feec94"/>
                </a:solidFill>
                <a:latin typeface="Times New Roman"/>
              </a:rPr>
              <a:t>โรงเรียนพระปริยัติธรรม แผนกสามัญศึกษา ระดับประเทศ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14160" y="4005360"/>
            <a:ext cx="791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ระหว่างวันที่ ๒๔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๒๕ กุมภาพันธ์ พ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ศ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๒๕๕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ณ  สนามกีฬาสมโภชเชียงใหม่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0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ป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eec94"/>
                </a:solidFill>
                <a:latin typeface="Times New Roman"/>
              </a:rPr>
              <a:t>กิจกรรมภายในงาน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2920" y="1131480"/>
            <a:ext cx="69138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ตอบปัญหาทางวิชากา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บรรยายธรรมภาคภาษาไทย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บรรยายธรรมภาคภาษาอังกฤ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การเขียนเรียงควา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การวาดภา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eec94"/>
                </a:solidFill>
                <a:latin typeface="Times New Roman"/>
              </a:rPr>
              <a:t>กิจกรรมภายในงาน </a:t>
            </a: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hi-IN" sz="6000" spc="-1" strike="noStrike">
                <a:solidFill>
                  <a:srgbClr val="feec94"/>
                </a:solidFill>
                <a:latin typeface="Times New Roman"/>
              </a:rPr>
              <a:t>ต่อ</a:t>
            </a: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5680" y="1599840"/>
            <a:ext cx="67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การแต่งกลอนส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คัดลายมือภาษาไท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เขียนเรียงความแก้กระทู้ธรร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โครงงานวิทยาศาสตร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eec94"/>
                </a:solidFill>
                <a:latin typeface="Times New Roman"/>
              </a:rPr>
              <a:t>การจัดนิทรรศการแสดงผลงานทางวิชาการของ</a:t>
            </a:r>
            <a:br>
              <a:rPr sz="4000"/>
            </a:br>
            <a:r>
              <a:rPr b="1" lang="hi-IN" sz="4000" spc="-1" strike="noStrike">
                <a:solidFill>
                  <a:srgbClr val="feec94"/>
                </a:solidFill>
                <a:latin typeface="Times New Roman"/>
              </a:rPr>
              <a:t>โรงเรียนพระปริยัติธรรม แผนกสามัญศึกษา ทั่วประเทศ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6" descr="img_0120.jpg"/>
          <p:cNvPicPr/>
          <p:nvPr/>
        </p:nvPicPr>
        <p:blipFill>
          <a:blip r:embed="rId1"/>
          <a:stretch/>
        </p:blipFill>
        <p:spPr>
          <a:xfrm>
            <a:off x="1714680" y="18572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Angsana New"/>
              </a:rPr>
              <a:t>...</a:t>
            </a:r>
            <a:r>
              <a:rPr b="1" lang="hi-IN" sz="8800" spc="-1" strike="noStrike">
                <a:solidFill>
                  <a:srgbClr val="feec94"/>
                </a:solidFill>
                <a:latin typeface="Angsana New"/>
              </a:rPr>
              <a:t>ขอบคุณครับ</a:t>
            </a:r>
            <a:r>
              <a:rPr b="1" lang="en-US" sz="8800" spc="-1" strike="noStrike">
                <a:solidFill>
                  <a:srgbClr val="feec94"/>
                </a:solidFill>
                <a:latin typeface="Angsana New"/>
              </a:rPr>
              <a:t>...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37:38Z</dcterms:created>
  <dc:creator>KiLLeR</dc:creator>
  <dc:description/>
  <dc:language>en-US</dc:language>
  <cp:lastModifiedBy>ponglikit</cp:lastModifiedBy>
  <dcterms:modified xsi:type="dcterms:W3CDTF">2009-01-28T00:36:39Z</dcterms:modified>
  <cp:revision>13</cp:revision>
  <dc:subject/>
  <dc:title>วันมาฆบูชา</dc:title>
</cp:coreProperties>
</file>