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B202-EA3B-4C58-809C-92AAC74F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8D9D-0B14-41A4-83F9-32D8B7CF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E39A-D61A-4C48-BC38-9271AE2C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C627-B361-43C9-88B8-70DC1552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A340-4D68-44F9-A8D5-2F7ABC3F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11A5-C189-4B6A-9235-0F0FB663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A204-81F8-4082-ABDE-3E1AD2A6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4CB1-C2D6-4721-A0ED-D96BBDAB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5BA6-B72D-4DEB-979C-6F6229E5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63D4-9150-4600-9F8C-B1887211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4B82-1C3C-4D38-B8B8-0684CB0F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2F37-1BD4-4FD6-B642-3C0EB0CE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C323-1E8B-4CF0-8909-A17933B5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0218-6A62-4922-8FDD-4F60BFAC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F0C1-E897-4781-8F16-0AF472C0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F566-34B6-4FEC-A48D-D0798136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63D6-71AE-4B44-A092-4C78CBDAF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872E-D9F1-4622-B376-B02CD9F8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0B49-DC08-42D3-92D6-237B7359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2D3E-D98A-4EF4-81BD-A94D952F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D3D1-69A6-45B9-841E-679DC605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A123-9F2C-4716-98BE-6DA1D860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FBB4-E5DB-4EE6-86C2-FA823089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4DD1-6EAB-4C1B-A165-EAAC79FB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5BF1-2872-43D6-8284-DA73033FD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8671-0704-4842-9D17-2F76C243C8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3000" spc="-1" strike="noStrike">
                <a:solidFill>
                  <a:srgbClr val="feec94"/>
                </a:solidFill>
                <a:latin typeface="Times New Roman"/>
              </a:rPr>
              <a:t>วันมาฆบูชา</a:t>
            </a:r>
            <a:endParaRPr b="1" lang="en-US" sz="13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260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วันขึ้น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15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ค่ำ เดือน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ตรงกับวันที่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9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กุมภาพันธ์ พ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ศ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255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eec94"/>
                </a:solidFill>
                <a:latin typeface="Angsana New"/>
              </a:rPr>
              <a:t>...</a:t>
            </a:r>
            <a:r>
              <a:rPr b="1" lang="hi-IN" sz="8800" spc="-1" strike="noStrike">
                <a:solidFill>
                  <a:srgbClr val="feec94"/>
                </a:solidFill>
                <a:latin typeface="Angsana New"/>
              </a:rPr>
              <a:t>ขอบคุณครับ</a:t>
            </a:r>
            <a:r>
              <a:rPr b="1" lang="en-US" sz="8800" spc="-1" strike="noStrike">
                <a:solidFill>
                  <a:srgbClr val="feec94"/>
                </a:solidFill>
                <a:latin typeface="Angsana New"/>
              </a:rPr>
              <a:t>...</a:t>
            </a:r>
            <a:endParaRPr b="1" lang="en-US" sz="8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eec94"/>
                </a:solidFill>
                <a:latin typeface="Times New Roman"/>
              </a:rPr>
              <a:t>จาตุรงคสันนิบาตพระพุทธเจ้าได้ตรัสเทศนาโอวาทปาติโมกข์ ในที่ประชุมสงฆ์เป็นการประชุมใหญ่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Picture 5" descr="268_1202602031"/>
          <p:cNvPicPr/>
          <p:nvPr/>
        </p:nvPicPr>
        <p:blipFill>
          <a:blip r:embed="rId1"/>
          <a:stretch/>
        </p:blipFill>
        <p:spPr>
          <a:xfrm>
            <a:off x="1047600" y="2146320"/>
            <a:ext cx="2857680" cy="343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Picture 13" descr="0805"/>
          <p:cNvPicPr/>
          <p:nvPr/>
        </p:nvPicPr>
        <p:blipFill>
          <a:blip r:embed="rId2"/>
          <a:stretch/>
        </p:blipFill>
        <p:spPr>
          <a:xfrm>
            <a:off x="4500720" y="2349360"/>
            <a:ext cx="3746520" cy="2967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eec94"/>
                </a:solidFill>
                <a:latin typeface="Times New Roman"/>
              </a:rPr>
              <a:t>เวียนเทียน เนื่องในวันมาฆบูชา</a:t>
            </a:r>
            <a:br>
              <a:rPr sz="6600"/>
            </a:br>
            <a:r>
              <a:rPr b="1" lang="th-TH" sz="4000" spc="-1" strike="noStrike">
                <a:solidFill>
                  <a:srgbClr val="feec94"/>
                </a:solidFill>
                <a:latin typeface="Angsana New"/>
              </a:rPr>
              <a:t>วันที่  </a:t>
            </a:r>
            <a:r>
              <a:rPr b="1" lang="en-US" sz="4000" spc="-1" strike="noStrike">
                <a:solidFill>
                  <a:srgbClr val="feec94"/>
                </a:solidFill>
                <a:latin typeface="Angsana New"/>
              </a:rPr>
              <a:t>9  </a:t>
            </a:r>
            <a:r>
              <a:rPr b="1" lang="th-TH" sz="4000" spc="-1" strike="noStrike">
                <a:solidFill>
                  <a:srgbClr val="feec94"/>
                </a:solidFill>
                <a:latin typeface="Angsana New"/>
              </a:rPr>
              <a:t>กุมภาพันธ์ </a:t>
            </a:r>
            <a:r>
              <a:rPr b="1" lang="en-US" sz="4000" spc="-1" strike="noStrike">
                <a:solidFill>
                  <a:srgbClr val="feec94"/>
                </a:solidFill>
                <a:latin typeface="Angsana New"/>
              </a:rPr>
              <a:t>2552  </a:t>
            </a:r>
            <a:r>
              <a:rPr b="1" lang="th-TH" sz="4000" spc="-1" strike="noStrike">
                <a:solidFill>
                  <a:srgbClr val="feec94"/>
                </a:solidFill>
                <a:latin typeface="Angsana New"/>
              </a:rPr>
              <a:t>เวลา  </a:t>
            </a:r>
            <a:r>
              <a:rPr b="1" lang="en-US" sz="4000" spc="-1" strike="noStrike">
                <a:solidFill>
                  <a:srgbClr val="feec94"/>
                </a:solidFill>
                <a:latin typeface="Angsana New"/>
              </a:rPr>
              <a:t>19.00 </a:t>
            </a:r>
            <a:r>
              <a:rPr b="1" lang="th-TH" sz="4000" spc="-1" strike="noStrike">
                <a:solidFill>
                  <a:srgbClr val="feec94"/>
                </a:solidFill>
                <a:latin typeface="Angsana New"/>
              </a:rPr>
              <a:t>น</a:t>
            </a:r>
            <a:r>
              <a:rPr b="1" lang="th-TH" sz="4000" spc="-1" strike="noStrike">
                <a:solidFill>
                  <a:srgbClr val="feec94"/>
                </a:solidFill>
                <a:latin typeface="Angsana New"/>
              </a:rPr>
              <a:t>. </a:t>
            </a:r>
            <a:r>
              <a:rPr b="1" lang="th-TH" sz="4000" spc="-1" strike="noStrike">
                <a:solidFill>
                  <a:srgbClr val="feec94"/>
                </a:solidFill>
                <a:latin typeface="Angsana New"/>
              </a:rPr>
              <a:t>เป็นต้นไป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Picture 7" descr="0138_5"/>
          <p:cNvPicPr/>
          <p:nvPr/>
        </p:nvPicPr>
        <p:blipFill>
          <a:blip r:embed="rId1"/>
          <a:stretch/>
        </p:blipFill>
        <p:spPr>
          <a:xfrm>
            <a:off x="457200" y="2400480"/>
            <a:ext cx="4038480" cy="36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Picture 8" descr="035_6539"/>
          <p:cNvPicPr/>
          <p:nvPr/>
        </p:nvPicPr>
        <p:blipFill>
          <a:blip r:embed="rId2"/>
          <a:stretch/>
        </p:blipFill>
        <p:spPr>
          <a:xfrm>
            <a:off x="4643280" y="2760840"/>
            <a:ext cx="4038840" cy="316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eec94"/>
                </a:solidFill>
                <a:latin typeface="Angsana New"/>
              </a:rPr>
              <a:t>วัดที่จัดกิจกรรมงานสัปดาห์เผแผ่พระพุทธศาสนาเนื่องในวันมาฆบูชา  ประจำปี </a:t>
            </a:r>
            <a:r>
              <a:rPr b="1" lang="en-US" sz="4800" spc="-1" strike="noStrike">
                <a:solidFill>
                  <a:srgbClr val="feec94"/>
                </a:solidFill>
                <a:latin typeface="Angsana New"/>
              </a:rPr>
              <a:t>2552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1287360" y="1771560"/>
            <a:ext cx="7429680" cy="63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5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Times New Roman"/>
                <a:cs typeface="Angsana New"/>
              </a:rPr>
              <a:t>วัดพระสิงห์วรมหาวิหาร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5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Times New Roman"/>
                <a:cs typeface="Angsana New"/>
              </a:rPr>
              <a:t>วัดเจดีย์หลวงวรวิหาร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5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Times New Roman"/>
                <a:cs typeface="Angsana New"/>
              </a:rPr>
              <a:t>วัดพระธาตุดอยสุเทพราชวรวิหาร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5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Times New Roman"/>
                <a:cs typeface="Angsana New"/>
              </a:rPr>
              <a:t>วัดบุพพาราม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eec94"/>
                </a:solidFill>
                <a:latin typeface="Times New Roman"/>
              </a:rPr>
              <a:t>กิจกรรมที่ควรปฏิบัติเป็นพุทธบูชา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1428840" y="1682640"/>
            <a:ext cx="6431040" cy="78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ประดับธงชาติ  ธงศาสนา  ตามอาคาร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ควรงดจำหน่ายเครื่องดองของเม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อาราธนาพระภิกษุแสดปาฐกถาธรรม                            การจัดนิทรรศการส่งเสริมศีลธรรม                         และกิจกรรมปลูกฝังคุณธรรมจริยธรร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การร่วมทำบุญตักบาตร  ฟังธรรม  รักษาศี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1052280"/>
            <a:ext cx="835164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500" spc="-1" strike="noStrike">
                <a:solidFill>
                  <a:srgbClr val="feec94"/>
                </a:solidFill>
                <a:latin typeface="Times New Roman"/>
              </a:rPr>
              <a:t>ขอเชิญร่วมงานมหกรรมวิชาการ</a:t>
            </a:r>
            <a:br>
              <a:rPr sz="5500"/>
            </a:br>
            <a:r>
              <a:rPr b="1" lang="hi-IN" sz="5500" spc="-1" strike="noStrike">
                <a:solidFill>
                  <a:srgbClr val="feec94"/>
                </a:solidFill>
                <a:latin typeface="Times New Roman"/>
              </a:rPr>
              <a:t>โรงเรียนพระปริยัติธรรม แผนกสามัญศึกษา ระดับประเทศ</a:t>
            </a:r>
            <a:endParaRPr b="1" lang="en-US" sz="55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14160" y="4005360"/>
            <a:ext cx="7918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ระหว่างวันที่ ๒๔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๒๕ กุมภาพันธ์ พ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ศ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๒๕๕๒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ณ  สนามกีฬาสมโภชเชียงใหม่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0 </a:t>
            </a: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ป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eec94"/>
                </a:solidFill>
                <a:latin typeface="Times New Roman"/>
              </a:rPr>
              <a:t>กิจกรรมภายในงาน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02920" y="1131480"/>
            <a:ext cx="691380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3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การแข่งขันตอบปัญหาทางวิชาการ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13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การแข่งขันบรรยายธรรมภาคภาษาไทย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13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การแข่งขันบรรยายธรรมภาคภาษาอังกฤ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13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การแข่งขันการเขียนเรียงควา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การแข่งขันการวาดภา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eec94"/>
                </a:solidFill>
                <a:latin typeface="Times New Roman"/>
              </a:rPr>
              <a:t>กิจกรรมภายในงาน </a:t>
            </a: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1" lang="hi-IN" sz="6000" spc="-1" strike="noStrike">
                <a:solidFill>
                  <a:srgbClr val="feec94"/>
                </a:solidFill>
                <a:latin typeface="Times New Roman"/>
              </a:rPr>
              <a:t>ต่อ</a:t>
            </a: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)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5680" y="1599840"/>
            <a:ext cx="671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3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การแข่งขันการแต่งกลอนสด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3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การแข่งขันคัดลายมือภาษาไทย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3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การแข่งขันเขียนเรียงความแก้กระทู้ธรร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3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การแข่งขันโครงงานวิทยาศาสตร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eec94"/>
                </a:solidFill>
                <a:latin typeface="Times New Roman"/>
              </a:rPr>
              <a:t>การจัดนิทรรศการแสดงผลงานทางวิชาการของ</a:t>
            </a:r>
            <a:br>
              <a:rPr sz="4000"/>
            </a:br>
            <a:r>
              <a:rPr b="1" lang="hi-IN" sz="4000" spc="-1" strike="noStrike">
                <a:solidFill>
                  <a:srgbClr val="feec94"/>
                </a:solidFill>
                <a:latin typeface="Times New Roman"/>
              </a:rPr>
              <a:t>โรงเรียนพระปริยัติธรรม แผนกสามัญศึกษา ทั่วประเทศ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6" descr="img_0120.jpg"/>
          <p:cNvPicPr/>
          <p:nvPr/>
        </p:nvPicPr>
        <p:blipFill>
          <a:blip r:embed="rId1"/>
          <a:stretch/>
        </p:blipFill>
        <p:spPr>
          <a:xfrm>
            <a:off x="1714680" y="185724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03:37:38Z</dcterms:created>
  <dc:creator>KiLLeR</dc:creator>
  <dc:description/>
  <dc:language>en-US</dc:language>
  <cp:lastModifiedBy>KiLLeR</cp:lastModifiedBy>
  <dcterms:modified xsi:type="dcterms:W3CDTF">2009-01-27T07:00:21Z</dcterms:modified>
  <cp:revision>12</cp:revision>
  <dc:subject/>
  <dc:title>วันมาฆบูชา</dc:title>
</cp:coreProperties>
</file>