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4C17-5CD9-4F31-BE56-EBABE849D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CA34-2966-4F95-B40A-19AEF04B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A67D-544B-4160-9A8F-BF1747BE4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9D0C-D6A9-444E-B0FF-0D9D19F1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AED2-4608-43DF-B06C-61E2E4FA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2AC9-25D8-4653-9856-FF5CD637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976F-B3DA-49A8-84E7-EDD8D30A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0804-56C9-4BCC-A990-3C0DAB96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2B0F-8599-451F-A865-534A4DD5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3C1D-F4F6-46B1-8A36-E7AD502D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3236-BD8C-4923-B7D2-9FA80DF0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374A-5637-4DE0-A062-0E46EB98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26A2-B84C-4608-86C2-4D5E9F160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8000" y="203040"/>
            <a:ext cx="8964720" cy="652464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6440" y="85320"/>
            <a:ext cx="88711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00"/>
                </a:solidFill>
                <a:latin typeface="Arial"/>
              </a:rPr>
              <a:t>การบำเพ็ญกุศลสตมวาร </a:t>
            </a:r>
            <a:r>
              <a:rPr b="1" lang="th-TH" sz="5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th-TH" sz="5400" spc="-1" strike="noStrike">
                <a:solidFill>
                  <a:srgbClr val="ffff00"/>
                </a:solidFill>
                <a:latin typeface="Arial"/>
              </a:rPr>
              <a:t>ครบ ๑๐๐ วัน</a:t>
            </a:r>
            <a:r>
              <a:rPr b="1" lang="th-TH" sz="54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5400"/>
            </a:br>
            <a:r>
              <a:rPr b="1" lang="th-TH" sz="5400" spc="-1" strike="noStrike">
                <a:solidFill>
                  <a:srgbClr val="ffff00"/>
                </a:solidFill>
                <a:latin typeface="Arial"/>
              </a:rPr>
              <a:t>อุทิศถวาย</a:t>
            </a:r>
            <a:br>
              <a:rPr sz="5400"/>
            </a:br>
            <a:r>
              <a:rPr b="1" lang="th-TH" sz="5400" spc="-1" strike="noStrike">
                <a:solidFill>
                  <a:srgbClr val="ffff00"/>
                </a:solidFill>
                <a:latin typeface="Arial"/>
              </a:rPr>
              <a:t>พระเดชพระคุณพระพุทธพจนวราภรณ์ </a:t>
            </a:r>
            <a:br>
              <a:rPr sz="5400"/>
            </a:br>
            <a:r>
              <a:rPr b="1" lang="th-TH" sz="5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th-TH" sz="5400" spc="-1" strike="noStrike">
                <a:solidFill>
                  <a:srgbClr val="ffff00"/>
                </a:solidFill>
                <a:latin typeface="Arial"/>
              </a:rPr>
              <a:t>หลวงปู่จันทร์ กุสโล</a:t>
            </a:r>
            <a:r>
              <a:rPr b="1" lang="th-TH" sz="54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5400"/>
            </a:br>
            <a:r>
              <a:rPr b="1" lang="th-TH" sz="5400" spc="-1" strike="noStrike">
                <a:solidFill>
                  <a:srgbClr val="ffff00"/>
                </a:solidFill>
                <a:latin typeface="Arial"/>
              </a:rPr>
              <a:t>วันอาทิตย์ที่ ๑๙ ตุลาคม ๒๕๕๑</a:t>
            </a:r>
            <a:br>
              <a:rPr sz="5400"/>
            </a:br>
            <a:r>
              <a:rPr b="1" lang="th-TH" sz="5400" spc="-1" strike="noStrike">
                <a:solidFill>
                  <a:srgbClr val="ffff00"/>
                </a:solidFill>
                <a:latin typeface="Arial"/>
              </a:rPr>
              <a:t>ณ พระวิหารหลวง วัดเจดีย์หลวงวรวิหาร </a:t>
            </a:r>
            <a:br>
              <a:rPr sz="5400"/>
            </a:br>
            <a:r>
              <a:rPr b="1" lang="th-TH" sz="5400" spc="-1" strike="noStrike">
                <a:solidFill>
                  <a:srgbClr val="ffff00"/>
                </a:solidFill>
                <a:latin typeface="Arial"/>
              </a:rPr>
              <a:t>อำเภอเมือง จังหวัดเชียงใหม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840" y="316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1680" y="316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8000" y="203040"/>
            <a:ext cx="8964720" cy="652464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6:14:03Z</dcterms:created>
  <dc:creator>Momo</dc:creator>
  <dc:description/>
  <dc:language>en-US</dc:language>
  <cp:lastModifiedBy>Momo</cp:lastModifiedBy>
  <dcterms:modified xsi:type="dcterms:W3CDTF">2008-09-25T04:39:56Z</dcterms:modified>
  <cp:revision>9</cp:revision>
  <dc:subject/>
  <dc:title>การบำเพ็ญกุศลสตมวาร (ครบ ๑๐๐ วัน) อุทิศถวาย พระเดชพระคุณพระพุทธพจนวราภรณ์ (หลวงปู่จันทร์ กุสโล)</dc:title>
</cp:coreProperties>
</file>