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534-8C9F-48C4-8A95-4D46F7F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7ED-C558-4555-8853-AD2E1F6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FFD-A03D-44BF-96EA-EAB3FD3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611-D103-4F71-AC9E-A249C05D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60D-A4F1-4388-BE5F-17DD40C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AC9-847B-4AE9-9AD8-61CE7F6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562-1C81-4FDF-BDEA-AD964A4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E2D-866A-48D0-8BFF-FA94DE61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6D3-F581-4060-B7A2-8E0D0508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8DC-C05D-4E11-A97C-01E84EB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4EF-B06D-4B1D-A181-EBB48554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6F8-2D3D-4291-81A4-9469FDD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8949-DB29-4CB0-A51E-05128E9F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พิธีวันปิยมหาราชของราชการจังหวัดเชียงใหม่   ประจำปี  พ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ศ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.2551</a:t>
            </a:r>
            <a:br>
              <a:rPr sz="3100"/>
            </a:b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ณ บริเวณลานพระบรมราชานุสาวรีย์ รัชกาลที่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ศาลากลางจังหวัดเชียงใหม่ </a:t>
            </a:r>
            <a:br>
              <a:rPr sz="3100"/>
            </a:b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วันที่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23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ตุลาคม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255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349360"/>
            <a:ext cx="705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1773360"/>
            <a:ext cx="9361440" cy="68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 u="sng">
                <a:solidFill>
                  <a:srgbClr val="000000"/>
                </a:solidFill>
                <a:uFillTx/>
                <a:latin typeface="Arial"/>
              </a:rPr>
              <a:t>กำหนดการ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วลา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07.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ผู้ร่วมพิธีพร้อม  ณ บริเวณพิธี และนำพวงมาลาวางถวายบังค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วลา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08.0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น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ผู้ว่าราชการจังหวัดเชียงใหม่ เริ่มประกอบพิธ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939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 u="sng">
                <a:solidFill>
                  <a:srgbClr val="000000"/>
                </a:solidFill>
                <a:uFillTx/>
                <a:latin typeface="Arial"/>
              </a:rPr>
              <a:t>การแต่งกาย</a:t>
            </a:r>
            <a:r>
              <a:rPr b="1" lang="th-TH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ข้าราชการพลเรือน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เครื่องแบบปกติขาว   สวมหมวก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939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ข้าราชการทหาร ตำรวจ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เครื่องแบบปกติขาว กระบี่ ถุงมือ สวมหมวก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939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บุคคลทั่วไป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ชุดสากลนิยม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ชุดสุภาพ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939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สมาคม  ชมรม  สโมสร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เครื่องแบบตามสังกัด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ชุดสุภาพ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14320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นักเรียน นักศึกษา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100" spc="-1" strike="noStrike">
                <a:solidFill>
                  <a:srgbClr val="000000"/>
                </a:solidFill>
                <a:latin typeface="Arial"/>
              </a:rPr>
              <a:t>ชุดนักเรียน  นักศึกษาตามสังกัด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2:42:36Z</dcterms:created>
  <dc:creator>personal</dc:creator>
  <dc:description/>
  <dc:language>en-US</dc:language>
  <cp:lastModifiedBy>owner</cp:lastModifiedBy>
  <dcterms:modified xsi:type="dcterms:W3CDTF">2003-01-04T20:19:31Z</dcterms:modified>
  <cp:revision>5</cp:revision>
  <dc:subject/>
  <dc:title>พิธีวันปิยมหาราชของราชการจังหวัดเชียงใหม่   ประจำปี  พ.ศ.2550 ณ บริเวณลานพระบรมราชานุสาวรีย์ รัชกาลที่ 5 ศาลากลางจังหวัดเชียงใหม่  วันที่  23  ตุลาคม  255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