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E09-4AEE-4989-84F9-2A2E0FCE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091C-E04D-43EC-A4E6-4E5308B1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4EC8-5CC6-41ED-8B57-923C7E7F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4B1-B11C-4164-A709-8A7996FE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A56-F8AB-4CE7-BB68-FA612484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607D-2FD8-4F34-99FE-88B890A9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73D2-D807-41F6-A7DC-6D5CB4B1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25E-B806-4550-8E4A-DCEDF021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57A-BFBB-4366-8A12-BB6F3362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7805-AECA-4554-B2BB-5B1BEB16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9174-C949-42FE-99F6-FD22DF56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591-F153-4615-AEF2-5146BCBE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CD43-CD90-4D91-B832-5160BBD05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E:\^pic\D\Logo\Untitled-2.png"/>
          <p:cNvPicPr/>
          <p:nvPr/>
        </p:nvPicPr>
        <p:blipFill>
          <a:blip r:embed="rId2"/>
          <a:stretch/>
        </p:blipFill>
        <p:spPr>
          <a:xfrm>
            <a:off x="-11160" y="0"/>
            <a:ext cx="9155160" cy="4429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230040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99"/>
                </a:solidFill>
                <a:latin typeface="Arial"/>
                <a:cs typeface="FreesiaUPC"/>
              </a:rPr>
              <a:t>โครงการจัดงาน                          ราชพฤกษ์รวมใจภักดิ์ รักพ่อหลว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rial"/>
                <a:cs typeface="FreesiaUPC"/>
              </a:rPr>
              <a:t>วัตถุประสงค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50920" y="1699920"/>
            <a:ext cx="79912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1.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เพื่อเฉลิมฉลองในวโรกาสวันเฉลิมพระชนมพรรษา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  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5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ธันวามหาราช                                                          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2.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เพื่อจัดพิธีอัญเชิญและเฉลิมฉลองสมโภชพระพุทธรู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  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เฉลิมพระเกียรติ ฯ สมถะวิปัสสนากรรมฐาน                                                   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3.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เพื่อเฉลิมฉลองการเปิดสวนฯ อย่างเป็นทางการ                               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4.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เพื่อจัดแสดงกิจกรรมโครงการพระราชดำริแล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E:\^pic\D\Logo\Untitled-2.png"/>
          <p:cNvPicPr/>
          <p:nvPr/>
        </p:nvPicPr>
        <p:blipFill>
          <a:blip r:embed="rId2"/>
          <a:stretch/>
        </p:blipFill>
        <p:spPr>
          <a:xfrm>
            <a:off x="25560" y="0"/>
            <a:ext cx="9154800" cy="442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4929120"/>
            <a:ext cx="83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  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เผยแพร่ผลงานของกระทรวงเกษตรและสหกรณ์                                        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5.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เพื่อกระตุ้นเศรษฐกิจและส่งเสริมการท่องเที่ยวขอ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  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จังหวัดเชียงใหม่รวมทั้งจังหวัดใกล้เคีย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E:\^pic\D\Logo\Untitled-2.png"/>
          <p:cNvPicPr/>
          <p:nvPr/>
        </p:nvPicPr>
        <p:blipFill>
          <a:blip r:embed="rId2"/>
          <a:stretch/>
        </p:blipFill>
        <p:spPr>
          <a:xfrm>
            <a:off x="-11160" y="0"/>
            <a:ext cx="915516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920" y="1341360"/>
            <a:ext cx="59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  <a:cs typeface="FreesiaUPC"/>
              </a:rPr>
              <a:t>ระยะเวลา และสถานที่ดำเนินงา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1989000"/>
            <a:ext cx="66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1 – 10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ธันวาคม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2551                                     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ณ สวนเฉลิมพระเกียรติ ฯ ราชพฤกษ์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2549                  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ต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.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แม่เหียะ  อ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.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เมือง จ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.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เชียงใหม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3807000"/>
            <a:ext cx="71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  <a:cs typeface="FreesiaUPC"/>
              </a:rPr>
              <a:t>เป้าหมายและผลที่คาดว่าจะได้รั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8560" y="4437000"/>
            <a:ext cx="78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มีนักท่องเที่ยวและผู้สนใจเข้าชมงาน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200,000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คน        ทำให้เกิดการกระตุ้นเศรษฐกิจภาคการท่องเที่ยว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ตามวัตถุประสงค์ที่ตั้งไว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E:\^pic\D\Logo\Untitled-2.png"/>
          <p:cNvPicPr/>
          <p:nvPr/>
        </p:nvPicPr>
        <p:blipFill>
          <a:blip r:embed="rId2"/>
          <a:stretch/>
        </p:blipFill>
        <p:spPr>
          <a:xfrm>
            <a:off x="-11160" y="0"/>
            <a:ext cx="9155160" cy="4429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107964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rial"/>
                <a:cs typeface="FreesiaUPC"/>
              </a:rPr>
              <a:t>กิจกรรมการจัดงาน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50920" y="1413000"/>
            <a:ext cx="864216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1.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พิธีเปิดงานและเปิดสวนเฉลิมพระเกียรติ ฯ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  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อย่างเป็นทางกา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2.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พิธีอัญเชิญและเฉลิมฉลองสมโภชพระพุทธรูป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   เฉลิมพระเกียรติ ฯ สมถะวิปัสนากรรมฐา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3.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พิธีเฉลิมฉลองงานวันพ่อ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5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ธันวามหารา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4.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การแสดงนิทรรศการและกิจกรรมโครงการพระราชดำร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5.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การแสดงกิจกรรมเผยแพร่ผลงานของกระทรวงเกษตร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  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และสหกรณ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880" y="64515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E:\^pic\D\Logo\Untitled-2.png"/>
          <p:cNvPicPr/>
          <p:nvPr/>
        </p:nvPicPr>
        <p:blipFill>
          <a:blip r:embed="rId2"/>
          <a:stretch/>
        </p:blipFill>
        <p:spPr>
          <a:xfrm>
            <a:off x="-11160" y="0"/>
            <a:ext cx="9155160" cy="4429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26920" y="83664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rial"/>
                <a:cs typeface="FreesiaUPC"/>
              </a:rPr>
              <a:t>กิจกรรมการจัดงาน </a:t>
            </a:r>
            <a:r>
              <a:rPr b="1" lang="th-TH" sz="4800" spc="-1" strike="noStrike">
                <a:solidFill>
                  <a:srgbClr val="000000"/>
                </a:solidFill>
                <a:latin typeface="Arial"/>
                <a:ea typeface="FreesiaUPC"/>
              </a:rPr>
              <a:t>(</a:t>
            </a:r>
            <a:r>
              <a:rPr b="1" lang="th-TH" sz="4800" spc="-1" strike="noStrike">
                <a:solidFill>
                  <a:srgbClr val="000000"/>
                </a:solidFill>
                <a:latin typeface="Arial"/>
                <a:cs typeface="FreesiaUPC"/>
              </a:rPr>
              <a:t>ต่อ</a:t>
            </a:r>
            <a:r>
              <a:rPr b="1" lang="th-TH" sz="4800" spc="-1" strike="noStrike">
                <a:solidFill>
                  <a:srgbClr val="000000"/>
                </a:solidFill>
                <a:latin typeface="Arial"/>
                <a:ea typeface="FreesiaUPC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063880"/>
            <a:ext cx="7272360" cy="68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6.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การประชาสัมพันธ์แหล่งท่องเที่ยวที่น่าสนใจ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7.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การจัดจำหน่ายสินค้า </a:t>
            </a:r>
            <a:r>
              <a:rPr b="1" lang="en-US" sz="3600" spc="-1" strike="noStrike">
                <a:solidFill>
                  <a:srgbClr val="000099"/>
                </a:solidFill>
                <a:latin typeface="Angsana New"/>
              </a:rPr>
              <a:t>OTOP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และสินค้าชุมช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8.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การประกวดกล้วยไม้ และสวนหย่อมกล้วยไม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  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การสาธิตศิลปหัตถกรรม  การฝึกอบรมวิชาชี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9.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การแสดงดนตรีและศิลปวัฒนธรรมสี่ภา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10.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กิจกรรมอื่น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E:\^pic\D\Logo\Untitled-2.png"/>
          <p:cNvPicPr/>
          <p:nvPr/>
        </p:nvPicPr>
        <p:blipFill>
          <a:blip r:embed="rId2"/>
          <a:stretch/>
        </p:blipFill>
        <p:spPr>
          <a:xfrm>
            <a:off x="-11160" y="0"/>
            <a:ext cx="9155160" cy="4429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35280" y="1700280"/>
            <a:ext cx="504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rial"/>
                <a:cs typeface="FreesiaUPC"/>
              </a:rPr>
              <a:t>หน่วยงานที่รับผิดชอ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2673360"/>
            <a:ext cx="61927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Arial"/>
                <a:cs typeface="FreesiaUPC"/>
              </a:rPr>
              <a:t>กระทรวงเกษตรและสหกรณ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Arial"/>
                <a:cs typeface="FreesiaUPC"/>
              </a:rPr>
              <a:t>กระทรวงการท่องเที่ยวและกีฬ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Arial"/>
                <a:cs typeface="FreesiaUPC"/>
              </a:rPr>
              <a:t>จังหวัดเชียงใหม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E:\^pic\D\Logo\Untitled-2.png"/>
          <p:cNvPicPr/>
          <p:nvPr/>
        </p:nvPicPr>
        <p:blipFill>
          <a:blip r:embed="rId2"/>
          <a:stretch/>
        </p:blipFill>
        <p:spPr>
          <a:xfrm>
            <a:off x="-11160" y="0"/>
            <a:ext cx="9155160" cy="4429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62200" y="1665360"/>
            <a:ext cx="40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rial"/>
                <a:cs typeface="FreesiaUPC"/>
              </a:rPr>
              <a:t>แหล่งงบประมา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2673360"/>
            <a:ext cx="61927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Arial"/>
                <a:cs typeface="FreesiaUPC"/>
              </a:rPr>
              <a:t>กระทรวงเกษตรและสหกรณ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Arial"/>
                <a:cs typeface="FreesiaUPC"/>
              </a:rPr>
              <a:t>กระทรวงการท่องเที่ยวและกีฬ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Arial"/>
                <a:cs typeface="FreesiaUPC"/>
              </a:rPr>
              <a:t>อบจ</a:t>
            </a:r>
            <a:r>
              <a:rPr b="1" lang="th-TH" sz="4400" spc="-1" strike="noStrike">
                <a:solidFill>
                  <a:srgbClr val="000099"/>
                </a:solidFill>
                <a:latin typeface="Arial"/>
                <a:ea typeface="FreesiaUPC"/>
              </a:rPr>
              <a:t>.</a:t>
            </a:r>
            <a:r>
              <a:rPr b="1" lang="th-TH" sz="4400" spc="-1" strike="noStrike">
                <a:solidFill>
                  <a:srgbClr val="000099"/>
                </a:solidFill>
                <a:latin typeface="Arial"/>
                <a:cs typeface="FreesiaUPC"/>
              </a:rPr>
              <a:t>เชียงใหม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E:\^pic\D\Logo\Untitled-2.png"/>
          <p:cNvPicPr/>
          <p:nvPr/>
        </p:nvPicPr>
        <p:blipFill>
          <a:blip r:embed="rId2"/>
          <a:stretch/>
        </p:blipFill>
        <p:spPr>
          <a:xfrm>
            <a:off x="-11160" y="0"/>
            <a:ext cx="9155160" cy="4429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986200" y="692280"/>
            <a:ext cx="259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rial"/>
                <a:cs typeface="FreesiaUPC"/>
              </a:rPr>
              <a:t>ความคืบหน้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433520"/>
            <a:ext cx="756144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-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กษ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.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มีคำสั่งแต่งตั้งคณะกรรมการบริหารการจัดงานราชพฤกษ์รวมใจภักดิ์รักพ่อหลวง จำนวน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19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ท่าน และมีหนังสือเชิญเข้าร่วมประชุมในวันที่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1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ตุลาคม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2551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เวลา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15.30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น ณ ห้องประชุม กษ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386064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กษ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.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มีหนังสือเชิญชวนหน่วยงานเข้าร่วมกิจกรรม โดยให้แจ้งตอบรับไปที่ศูนย์ประสานงานโครงการสวนเฉลิมพระเกียรติฯ โทร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.02-579-7531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โทรสาร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02-940-7339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ภายในวันที่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30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cs typeface="FreesiaUPC"/>
              </a:rPr>
              <a:t>กันยายน </a:t>
            </a:r>
            <a:r>
              <a:rPr b="1" lang="th-TH" sz="3600" spc="-1" strike="noStrike">
                <a:solidFill>
                  <a:srgbClr val="000099"/>
                </a:solidFill>
                <a:latin typeface="Arial"/>
                <a:ea typeface="FreesiaUPC"/>
              </a:rPr>
              <a:t>25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6:23:07Z</dcterms:created>
  <dc:creator>sKzXP</dc:creator>
  <dc:description/>
  <dc:language>en-US</dc:language>
  <cp:lastModifiedBy>sKzXP</cp:lastModifiedBy>
  <dcterms:modified xsi:type="dcterms:W3CDTF">2008-09-28T17:13:39Z</dcterms:modified>
  <cp:revision>49</cp:revision>
  <dc:subject/>
  <dc:title>การจัดงานราชพฤกษ์รวมใจภักดีรักพ่อหลวง</dc:title>
</cp:coreProperties>
</file>