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Browallia New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owallia New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8C1-439B-4651-8D87-9370FA0F5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53BB-DD2A-4D99-AA5D-B93167B8D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3240" y="4716000"/>
            <a:ext cx="49910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owall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E6A4-3C1F-4E1A-AC59-6D0777D4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3240" y="4716000"/>
            <a:ext cx="49910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owall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1005-2390-4190-B2DD-263B3FF2D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68706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5640" y="3871800"/>
            <a:ext cx="68706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CAB5-4C82-432B-B3A8-3EB3802CE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5640" y="387180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6440" y="387180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E0E5-790D-436A-8679-F76FBD2AE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8720" y="148104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2160" y="148104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5640" y="387180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8720" y="387180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2160" y="387180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3338-46AC-45C3-9669-71CDCD9FD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5640" y="1481040"/>
            <a:ext cx="6870600" cy="45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3366"/>
              </a:solidFill>
              <a:latin typeface="Browallia Ne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687060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10960" y="95400"/>
            <a:ext cx="6886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3366"/>
              </a:solidFill>
              <a:latin typeface="Browallia Ne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15640" y="387180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5640" y="1481040"/>
            <a:ext cx="6870600" cy="45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F153-E651-4BAA-B4DB-35DAB5C8E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440" y="387180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15640" y="3871800"/>
            <a:ext cx="68706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68706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15640" y="3871800"/>
            <a:ext cx="68706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5640" y="387180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6440" y="387180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38720" y="148104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62160" y="148104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15640" y="387180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38720" y="387180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62160" y="3871800"/>
            <a:ext cx="22122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687060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3B7A-F460-4209-8648-A480AB83E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6E88-CC91-4DBC-9050-204321491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F428-9208-48DA-95BA-6023821F6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0960" y="95400"/>
            <a:ext cx="6886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0365-A944-447D-81FB-05F83F7C9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5640" y="387180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84A7-3FBE-4809-B9FA-6310F794B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6440" y="387180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99FA-3D81-4A0F-83C6-5A807A369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56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6440" y="1481040"/>
            <a:ext cx="335268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5640" y="3871800"/>
            <a:ext cx="6870600" cy="21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BBD7-3CF6-4D25-B12B-EC4532EAD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C Half Banner"/>
          <p:cNvSpPr/>
          <p:nvPr/>
        </p:nvSpPr>
        <p:spPr>
          <a:xfrm>
            <a:off x="0" y="0"/>
            <a:ext cx="9144000" cy="1028880"/>
          </a:xfrm>
          <a:prstGeom prst="rect">
            <a:avLst/>
          </a:prstGeom>
          <a:gradFill rotWithShape="0">
            <a:gsLst>
              <a:gs pos="0">
                <a:srgbClr val="729cc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28880"/>
            <a:ext cx="914076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115640" y="1481040"/>
            <a:ext cx="687060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rowallia New"/>
              </a:rPr>
              <a:t>Click to edit the outline text format</a:t>
            </a: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rowallia New"/>
              </a:rPr>
              <a:t>Second Outline Level</a:t>
            </a: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rowallia New"/>
              </a:rPr>
              <a:t>Third Outline Level</a:t>
            </a: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rowallia New"/>
              </a:rPr>
              <a:t>Fourth Outline Level</a:t>
            </a: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rowallia New"/>
              </a:rPr>
              <a:t>Fifth Outline Level</a:t>
            </a: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rowallia New"/>
              </a:rPr>
              <a:t>Sixth Outline Level</a:t>
            </a: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rowallia New"/>
              </a:rPr>
              <a:t>Seventh Outline Level</a:t>
            </a:r>
            <a:endParaRPr b="1" lang="en-US" sz="20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Browallia New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AF8B-0922-4F70-AAB7-41396D73EA3B}" type="slidenum">
              <a:rPr b="1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480" y="44280"/>
            <a:ext cx="917280" cy="91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Browallia New"/>
              </a:rPr>
              <a:t>Click to edit the title text format</a:t>
            </a:r>
            <a:endParaRPr b="1" i="1" lang="en-US" sz="2800" spc="-1" strike="noStrike">
              <a:solidFill>
                <a:srgbClr val="003366"/>
              </a:solidFill>
              <a:latin typeface="Browall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H="1">
            <a:off x="3638520" y="4343400"/>
            <a:ext cx="457200" cy="685800"/>
          </a:xfrm>
          <a:prstGeom prst="line">
            <a:avLst/>
          </a:prstGeom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572000" y="2506680"/>
            <a:ext cx="0" cy="541440"/>
          </a:xfrm>
          <a:prstGeom prst="line">
            <a:avLst/>
          </a:prstGeom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300640" y="3714480"/>
            <a:ext cx="776160" cy="19080"/>
          </a:xfrm>
          <a:prstGeom prst="line">
            <a:avLst/>
          </a:prstGeom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069720" y="3733920"/>
            <a:ext cx="706680" cy="7920"/>
          </a:xfrm>
          <a:prstGeom prst="line">
            <a:avLst/>
          </a:prstGeom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5920" y="1573200"/>
            <a:ext cx="2432160" cy="955800"/>
          </a:xfrm>
          <a:prstGeom prst="rect">
            <a:avLst/>
          </a:prstGeom>
          <a:solidFill>
            <a:srgbClr val="ffcc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รักษาเสถียรภา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ทางเศรษฐกิ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90800" y="3048120"/>
            <a:ext cx="1524240" cy="1447560"/>
          </a:xfrm>
          <a:prstGeom prst="ellipse">
            <a:avLst/>
          </a:prstGeom>
          <a:solidFill>
            <a:srgbClr val="ffff99">
              <a:alpha val="69000"/>
            </a:srgbClr>
          </a:solidFill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14840" y="3489480"/>
            <a:ext cx="17524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ธปท</a:t>
            </a:r>
            <a:r>
              <a:rPr b="1" lang="en-US" sz="4000" spc="-1" strike="noStrike">
                <a:solidFill>
                  <a:srgbClr val="003366"/>
                </a:solidFill>
                <a:latin typeface="Browallia New"/>
                <a:ea typeface="Browallia New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281160"/>
            <a:ext cx="60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บทบาทและหน้าที่ของ ธปท</a:t>
            </a:r>
            <a:r>
              <a:rPr b="1" lang="en-US" sz="3200" spc="-1" strike="noStrike">
                <a:solidFill>
                  <a:srgbClr val="003366"/>
                </a:solidFill>
                <a:latin typeface="Browallia New"/>
                <a:ea typeface="Browallia New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10120" y="4343400"/>
            <a:ext cx="457200" cy="685800"/>
          </a:xfrm>
          <a:prstGeom prst="line">
            <a:avLst/>
          </a:prstGeom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1320" y="3213000"/>
            <a:ext cx="2233800" cy="113364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บริหารเงินสำรอ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ระหว่างประเท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3182760"/>
            <a:ext cx="2159280" cy="113364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รักษาความมั่นคง</a:t>
            </a:r>
            <a:br>
              <a:rPr sz="2400"/>
            </a:b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ของระบบ</a:t>
            </a:r>
            <a:br>
              <a:rPr sz="2400"/>
            </a:b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สถาบันการเงิ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08280" y="5013360"/>
            <a:ext cx="2519280" cy="129528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ดูแลระบบการชำระเงิ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และบริหารจัดการ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ธนบัตรออกใช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5640" y="5013360"/>
            <a:ext cx="2519280" cy="129528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เป็นนายธนาคารของ</a:t>
            </a:r>
            <a:br>
              <a:rPr sz="2400"/>
            </a:b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รัฐบาลและ</a:t>
            </a:r>
            <a:br>
              <a:rPr sz="2400"/>
            </a:b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สถาบันการเงิ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05CE-77D7-49E0-9AC4-8DB7B09E1D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1960" y="1508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66"/>
                </a:solidFill>
                <a:uFillTx/>
                <a:latin typeface="Browallia New"/>
                <a:cs typeface="Browallia New"/>
              </a:rPr>
              <a:t>เป้าหมายสูงสุดของการบริหารเศรษฐกิจมหภาค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" y="1268280"/>
            <a:ext cx="88390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ff"/>
                </a:solidFill>
                <a:latin typeface="Browallia New"/>
                <a:cs typeface="Browallia New"/>
              </a:rPr>
              <a:t>สนับสนุนให้เศรษฐกิจเติบโตอย่างมั่นคง </a:t>
            </a:r>
            <a:r>
              <a:rPr b="1" lang="th-TH" sz="2800" spc="-1" strike="noStrike">
                <a:solidFill>
                  <a:srgbClr val="3333ff"/>
                </a:solidFill>
                <a:latin typeface="Browallia New"/>
                <a:ea typeface="Browallia New"/>
              </a:rPr>
              <a:t>(</a:t>
            </a:r>
            <a:r>
              <a:rPr b="1" lang="th-TH" sz="2800" spc="-1" strike="noStrike">
                <a:solidFill>
                  <a:srgbClr val="3333ff"/>
                </a:solidFill>
                <a:latin typeface="Browallia New"/>
                <a:cs typeface="Browallia New"/>
              </a:rPr>
              <a:t>มีเสถียรภาพ  มีความเสมอภาค</a:t>
            </a:r>
            <a:br>
              <a:rPr sz="2800"/>
            </a:br>
            <a:r>
              <a:rPr b="1" lang="th-TH" sz="2800" spc="-1" strike="noStrike">
                <a:solidFill>
                  <a:srgbClr val="3333ff"/>
                </a:solidFill>
                <a:latin typeface="Browallia New"/>
                <a:cs typeface="Browallia New"/>
              </a:rPr>
              <a:t>และปรับตัวได้ดีต่อการเปลี่ยนแปลง</a:t>
            </a:r>
            <a:r>
              <a:rPr b="1" lang="th-TH" sz="2800" spc="-1" strike="noStrike">
                <a:solidFill>
                  <a:srgbClr val="3333ff"/>
                </a:solidFill>
                <a:latin typeface="Browallia New"/>
                <a:ea typeface="Browallia New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3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rowallia New"/>
                <a:ea typeface="Browallia New"/>
              </a:rPr>
              <a:t>  </a:t>
            </a:r>
            <a:r>
              <a:rPr b="1" lang="th-TH" sz="2800" spc="-1" strike="noStrike">
                <a:solidFill>
                  <a:srgbClr val="ff00ff"/>
                </a:solidFill>
                <a:latin typeface="Browallia New"/>
                <a:cs typeface="Browallia New"/>
              </a:rPr>
              <a:t>ไม่มีแรงกดดันด้านเงินเฟ้อ </a:t>
            </a:r>
            <a:r>
              <a:rPr b="1" lang="en-US" sz="2800" spc="-1" strike="noStrike">
                <a:solidFill>
                  <a:srgbClr val="ff00ff"/>
                </a:solidFill>
                <a:latin typeface="Browallia New"/>
                <a:ea typeface="Browallia New"/>
              </a:rPr>
              <a:t>(Price  Stabili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3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rowallia New"/>
                <a:ea typeface="Browallia New"/>
              </a:rPr>
              <a:t>  </a:t>
            </a:r>
            <a:r>
              <a:rPr b="1" lang="th-TH" sz="2800" spc="-1" strike="noStrike">
                <a:solidFill>
                  <a:srgbClr val="ff00ff"/>
                </a:solidFill>
                <a:latin typeface="Browallia New"/>
                <a:cs typeface="Browallia New"/>
              </a:rPr>
              <a:t>มีการกระจายรายได้อย่างทั่วถึงและพอเพียง </a:t>
            </a:r>
            <a:r>
              <a:rPr b="1" lang="en-US" sz="2800" spc="-1" strike="noStrike">
                <a:solidFill>
                  <a:srgbClr val="ff00ff"/>
                </a:solidFill>
                <a:latin typeface="Browallia New"/>
                <a:ea typeface="Browallia New"/>
              </a:rPr>
              <a:t>(Equi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3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rowallia New"/>
                <a:ea typeface="Browallia New"/>
              </a:rPr>
              <a:t>  </a:t>
            </a:r>
            <a:r>
              <a:rPr b="1" lang="th-TH" sz="2800" spc="-1" strike="noStrike">
                <a:solidFill>
                  <a:srgbClr val="ff00ff"/>
                </a:solidFill>
                <a:latin typeface="Browallia New"/>
                <a:cs typeface="Browallia New"/>
              </a:rPr>
              <a:t>เป็นระบบเศรษฐกิจที่พร้อมปรับตัวรับการเปลี่ยนแปลงทั้งภายในและ</a:t>
            </a: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Browallia New"/>
                <a:ea typeface="Browallia New"/>
              </a:rPr>
              <a:t>     </a:t>
            </a:r>
            <a:r>
              <a:rPr b="1" lang="th-TH" sz="2800" spc="-1" strike="noStrike">
                <a:solidFill>
                  <a:srgbClr val="ff00ff"/>
                </a:solidFill>
                <a:latin typeface="Browallia New"/>
                <a:cs typeface="Browallia New"/>
              </a:rPr>
              <a:t>ภายนอกประเทศได้อย่างทันการณ์ </a:t>
            </a:r>
            <a:r>
              <a:rPr b="1" lang="en-US" sz="2800" spc="-1" strike="noStrike">
                <a:solidFill>
                  <a:srgbClr val="ff00ff"/>
                </a:solidFill>
                <a:latin typeface="Browallia New"/>
                <a:ea typeface="Browallia New"/>
              </a:rPr>
              <a:t>(Versatility </a:t>
            </a:r>
            <a:r>
              <a:rPr b="1" lang="th-TH" sz="2800" spc="-1" strike="noStrike">
                <a:solidFill>
                  <a:srgbClr val="ff00ff"/>
                </a:solidFill>
                <a:latin typeface="Browallia New"/>
                <a:cs typeface="Browallia New"/>
              </a:rPr>
              <a:t>หรือ </a:t>
            </a:r>
            <a:r>
              <a:rPr b="1" lang="en-US" sz="2800" spc="-1" strike="noStrike">
                <a:solidFill>
                  <a:srgbClr val="ff00ff"/>
                </a:solidFill>
                <a:latin typeface="Browallia New"/>
                <a:ea typeface="Browallia New"/>
              </a:rPr>
              <a:t>Adaptability)</a:t>
            </a:r>
            <a:r>
              <a:rPr b="1" lang="en-US" sz="2800" spc="-1" strike="noStrike">
                <a:solidFill>
                  <a:srgbClr val="ffff66"/>
                </a:solidFill>
                <a:latin typeface="Browallia New"/>
                <a:ea typeface="Browallia Ne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6699"/>
                </a:solidFill>
                <a:latin typeface="Browallia New"/>
                <a:cs typeface="Browallia New"/>
              </a:rPr>
              <a:t>เครื่องมือสำคัญ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cc00ff"/>
                </a:solidFill>
                <a:latin typeface="Browallia New"/>
                <a:ea typeface="Browallia New"/>
              </a:rPr>
              <a:t>1.  </a:t>
            </a:r>
            <a:r>
              <a:rPr b="1" lang="th-TH" sz="2800" spc="-1" strike="noStrike">
                <a:solidFill>
                  <a:srgbClr val="cc00ff"/>
                </a:solidFill>
                <a:latin typeface="Browallia New"/>
                <a:cs typeface="Browallia New"/>
              </a:rPr>
              <a:t>นโยบายการเงิ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cc00ff"/>
                </a:solidFill>
                <a:latin typeface="Browallia New"/>
                <a:ea typeface="Browallia New"/>
              </a:rPr>
              <a:t>2.  </a:t>
            </a:r>
            <a:r>
              <a:rPr b="1" lang="th-TH" sz="2800" spc="-1" strike="noStrike">
                <a:solidFill>
                  <a:srgbClr val="cc00ff"/>
                </a:solidFill>
                <a:latin typeface="Browallia New"/>
                <a:cs typeface="Browallia New"/>
              </a:rPr>
              <a:t>นโยบายการคลั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cc00ff"/>
                </a:solidFill>
                <a:latin typeface="Browallia New"/>
                <a:ea typeface="Browallia New"/>
              </a:rPr>
              <a:t>3.  </a:t>
            </a:r>
            <a:r>
              <a:rPr b="1" lang="th-TH" sz="2800" spc="-1" strike="noStrike">
                <a:solidFill>
                  <a:srgbClr val="cc00ff"/>
                </a:solidFill>
                <a:latin typeface="Browallia New"/>
                <a:cs typeface="Browallia New"/>
              </a:rPr>
              <a:t>นโยบายเศรษฐกิจระหว่างประเทศ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46920" y="52308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ff"/>
                </a:solidFill>
                <a:latin typeface="Browallia New"/>
                <a:cs typeface="Browallia New"/>
              </a:rPr>
              <a:t>ต้องประสานสอดคล้องกั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3400" y="46972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344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2768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0459-3496-4C94-8676-B0CC11A2F10D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2852640"/>
            <a:ext cx="8121600" cy="3168720"/>
          </a:xfrm>
          <a:prstGeom prst="rect">
            <a:avLst/>
          </a:prstGeom>
          <a:noFill/>
          <a:ln w="5724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Browallia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Browallia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Browallia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Browallia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Browallia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Browallia New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341360"/>
            <a:ext cx="8136000" cy="1249560"/>
          </a:xfrm>
          <a:prstGeom prst="rect">
            <a:avLst/>
          </a:prstGeom>
          <a:solidFill>
            <a:srgbClr val="ccff66">
              <a:alpha val="42000"/>
            </a:srgbClr>
          </a:solidFill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เศรษฐกิจมีเสถียรภาพด้านราคาเมื่ออัตราเงินเฟ้ออยู่ในระดับต่ำและไม่ผันผวน</a:t>
            </a:r>
            <a:br>
              <a:rPr sz="2400"/>
            </a:b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ซึ่งเอื้อต่อการตัดสินใจและวางแผน</a:t>
            </a:r>
            <a:br>
              <a:rPr sz="2400"/>
            </a:br>
            <a:r>
              <a:rPr b="1" lang="hi-IN" sz="24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การบริโภค การผลิต การออม และการลงทุนในระยะยาว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440" y="3056040"/>
            <a:ext cx="2519280" cy="125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ักษาอำนาจซื้อของ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ผู้บริโภคและผู้ออม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440" y="4494240"/>
            <a:ext cx="2519280" cy="1258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ักษาความสามารถ</a:t>
            </a:r>
            <a:br>
              <a:rPr sz="2200"/>
            </a:b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ในการแข่งขัน</a:t>
            </a:r>
            <a:br>
              <a:rPr sz="2200"/>
            </a:b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ของสินค้าส่งออก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4680" y="3056040"/>
            <a:ext cx="2519640" cy="1258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ลดแรงกดดัน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่ออัตราแลกเปลี่ยน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81680" y="3056040"/>
            <a:ext cx="2519280" cy="125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ช่วยสร้างบรรยากาศ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เศรษฐกิจที่ดีโดยรวม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10960" y="95400"/>
            <a:ext cx="6886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66"/>
                </a:solidFill>
                <a:latin typeface="Browallia New"/>
              </a:rPr>
              <a:t>เสถียรภาพด้านราคา</a:t>
            </a:r>
            <a:endParaRPr b="1" lang="en-US" sz="3200" spc="-1" strike="noStrike">
              <a:solidFill>
                <a:srgbClr val="003366"/>
              </a:solidFill>
              <a:latin typeface="Browallia New"/>
            </a:endParaRPr>
          </a:p>
        </p:txBody>
      </p:sp>
      <p:sp>
        <p:nvSpPr>
          <p:cNvPr id="112" name=""/>
          <p:cNvSpPr/>
          <p:nvPr/>
        </p:nvSpPr>
        <p:spPr>
          <a:xfrm>
            <a:off x="3244680" y="4494240"/>
            <a:ext cx="2519640" cy="12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ลดความผันผวนของ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อัตราดอกเบี้ยที่แท้จริง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81680" y="4494240"/>
            <a:ext cx="2519280" cy="1258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ลดความไม่แน่นอนซึ่งเป็น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ัจจัยลบต่อการวางแผน</a:t>
            </a:r>
            <a:br>
              <a:rPr sz="2200"/>
            </a:br>
            <a:r>
              <a:rPr b="1" i="1" lang="hi-IN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และตัดสินใจทางเศรษฐกิจ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A2A7-857C-47EE-8BDF-415055C163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81680" y="1778040"/>
            <a:ext cx="2051280" cy="26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 u="sng">
                <a:solidFill>
                  <a:srgbClr val="003366"/>
                </a:solidFill>
                <a:uFillTx/>
                <a:latin typeface="Browallia New"/>
                <a:cs typeface="Browallia New"/>
              </a:rPr>
              <a:t>สายนโยบายการเงิน</a:t>
            </a:r>
            <a:r>
              <a:rPr b="1" lang="hi-IN" sz="2000" spc="-1" strike="noStrike" u="sng">
                <a:solidFill>
                  <a:srgbClr val="003366"/>
                </a:solidFill>
                <a:uFillTx/>
                <a:latin typeface="Browallia New"/>
                <a:cs typeface="Browallia New"/>
              </a:rPr>
              <a:t>และ</a:t>
            </a:r>
            <a:r>
              <a:rPr b="1" lang="hi-IN" sz="2200" spc="-1" strike="noStrike" u="sng">
                <a:solidFill>
                  <a:srgbClr val="003366"/>
                </a:solidFill>
                <a:uFillTx/>
                <a:latin typeface="Browallia New"/>
                <a:cs typeface="Browallia New"/>
              </a:rPr>
              <a:t>สายตลาดการเงิน</a:t>
            </a:r>
            <a:r>
              <a:rPr b="1" lang="hi-IN" sz="2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ประเมินภาวะเศรษฐกิจการเงินและแนวโน้มเศรษฐกิจและเงินเฟ้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00480" y="2260440"/>
            <a:ext cx="507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152360"/>
            <a:ext cx="323856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ข้อมู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46240" y="2041560"/>
            <a:ext cx="3238560" cy="431640"/>
          </a:xfrm>
          <a:prstGeom prst="rect">
            <a:avLst/>
          </a:prstGeom>
          <a:solidFill>
            <a:srgbClr val="cc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ระชุม กนง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 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ทุก 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6 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ัปดาห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46240" y="2968560"/>
            <a:ext cx="3238560" cy="719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ัดสินนโยบายการเงิน </a:t>
            </a: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ขึ้น</a:t>
            </a: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/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คง</a:t>
            </a: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/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ลด </a:t>
            </a: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RP 1 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วั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46240" y="5051520"/>
            <a:ext cx="3238560" cy="718920"/>
          </a:xfrm>
          <a:prstGeom prst="rect">
            <a:avLst/>
          </a:prstGeom>
          <a:solidFill>
            <a:srgbClr val="cc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ักษา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ะดับอัตราดอกเบี้ยนโยบาย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46240" y="6235560"/>
            <a:ext cx="3238560" cy="432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ายงานแนวโน้มเงินเฟ้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33280"/>
            <a:ext cx="752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ขั้นตอนการดำเนินนโยบายการเงินและส่วนงานที่เกี่ยวข้อ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46240" y="4152960"/>
            <a:ext cx="323856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แถลงข่าวผลการประชุ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692360"/>
            <a:ext cx="45720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9880" y="2581200"/>
            <a:ext cx="457200" cy="403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24320" y="3787920"/>
            <a:ext cx="45720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11720" y="4702320"/>
            <a:ext cx="45720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24320" y="5883120"/>
            <a:ext cx="45720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1557360"/>
            <a:ext cx="12952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5059440"/>
            <a:ext cx="2050920" cy="1374120"/>
          </a:xfrm>
          <a:prstGeom prst="rect">
            <a:avLst/>
          </a:prstGeom>
          <a:solidFill>
            <a:srgbClr val="ffff99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 u="sng">
                <a:solidFill>
                  <a:srgbClr val="003366"/>
                </a:solidFill>
                <a:uFillTx/>
                <a:latin typeface="Browallia New"/>
                <a:cs typeface="Browallia New"/>
              </a:rPr>
              <a:t>สายตลาดการเงิน</a:t>
            </a:r>
            <a:br>
              <a:rPr sz="2000"/>
            </a:br>
            <a:r>
              <a:rPr b="1" lang="hi-IN" sz="2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ใช้เครื่องมือทางการเงิ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5450040"/>
            <a:ext cx="507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5386320"/>
            <a:ext cx="2051280" cy="1679040"/>
          </a:xfrm>
          <a:prstGeom prst="rect">
            <a:avLst/>
          </a:prstGeom>
          <a:solidFill>
            <a:srgbClr val="cce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 u="sng">
                <a:solidFill>
                  <a:srgbClr val="003366"/>
                </a:solidFill>
                <a:uFillTx/>
                <a:latin typeface="Browallia New"/>
                <a:cs typeface="Browallia New"/>
              </a:rPr>
              <a:t>สายนโยบายการเงิน</a:t>
            </a:r>
            <a:r>
              <a:rPr b="1" lang="hi-IN" sz="2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จัดทำรายงานแนวโน้มเงินเฟ้อเพื่อเผยแพร่</a:t>
            </a:r>
            <a:br>
              <a:rPr sz="2000"/>
            </a:br>
            <a:r>
              <a:rPr b="1" lang="hi-IN" sz="2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ทุกไตรมาส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2960" y="6465960"/>
            <a:ext cx="50796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84800" y="4357800"/>
            <a:ext cx="50796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0920" y="3940200"/>
            <a:ext cx="2051280" cy="1038960"/>
          </a:xfrm>
          <a:prstGeom prst="rect">
            <a:avLst/>
          </a:prstGeom>
          <a:solidFill>
            <a:srgbClr val="ffff99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003366"/>
                </a:solidFill>
                <a:uFillTx/>
                <a:latin typeface="Browallia New"/>
                <a:cs typeface="Browallia New"/>
              </a:rPr>
              <a:t>เลขาฯ กนง</a:t>
            </a:r>
            <a:r>
              <a:rPr b="1" lang="th-TH" sz="2200" spc="-1" strike="noStrike" u="sng">
                <a:solidFill>
                  <a:srgbClr val="003366"/>
                </a:solidFill>
                <a:uFillTx/>
                <a:latin typeface="Browallia New"/>
                <a:ea typeface="Browallia New"/>
              </a:rPr>
              <a:t>.</a:t>
            </a:r>
            <a:r>
              <a:rPr b="1" lang="th-TH" sz="2200" spc="-1" strike="noStrike">
                <a:solidFill>
                  <a:srgbClr val="003366"/>
                </a:solidFill>
                <a:latin typeface="Browallia New"/>
                <a:ea typeface="Browallia New"/>
              </a:rPr>
              <a:t> </a:t>
            </a:r>
            <a:r>
              <a:rPr b="1" lang="th-TH" sz="2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แถลงข่าวกับสื่อมวลช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5" name=""/>
          <p:cNvCxnSpPr>
            <a:endCxn id="114" idx="0"/>
          </p:cNvCxnSpPr>
          <p:nvPr/>
        </p:nvCxnSpPr>
        <p:spPr>
          <a:xfrm flipH="1">
            <a:off x="7806600" y="1557000"/>
            <a:ext cx="5400" cy="221400"/>
          </a:xfrm>
          <a:prstGeom prst="straightConnector1">
            <a:avLst/>
          </a:prstGeom>
          <a:ln w="19080">
            <a:solidFill>
              <a:srgbClr val="777777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6516720" y="1557360"/>
            <a:ext cx="0" cy="8636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27280" y="2421000"/>
            <a:ext cx="289080" cy="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54000" anchor="ctr" anchorCtr="1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628640"/>
            <a:ext cx="1942920" cy="2594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66"/>
                </a:solidFill>
                <a:uFillTx/>
                <a:latin typeface="Browallia New"/>
                <a:cs typeface="Browallia New"/>
              </a:rPr>
              <a:t>กนง</a:t>
            </a:r>
            <a:r>
              <a:rPr b="1" lang="th-TH" sz="2000" spc="-1" strike="noStrike">
                <a:solidFill>
                  <a:srgbClr val="003366"/>
                </a:solidFill>
                <a:latin typeface="Browallia New"/>
                <a:ea typeface="Browallia New"/>
              </a:rPr>
              <a:t>. </a:t>
            </a:r>
            <a:r>
              <a:rPr b="1" lang="th-TH" sz="2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ประกอบด้วย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ผู้บริหารระดับสูงจาก ธปท</a:t>
            </a:r>
            <a:r>
              <a:rPr b="1" lang="th-TH" sz="2000" spc="-1" strike="noStrike">
                <a:solidFill>
                  <a:srgbClr val="003366"/>
                </a:solidFill>
                <a:latin typeface="Browallia New"/>
                <a:ea typeface="Browallia New"/>
              </a:rPr>
              <a:t>. 3 </a:t>
            </a:r>
            <a:r>
              <a:rPr b="1" lang="th-TH" sz="2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ท่านและ กรรมการผู้ทรงคุณวุฒิจากภายนอกอีก </a:t>
            </a:r>
            <a:r>
              <a:rPr b="1" lang="th-TH" sz="2000" spc="-1" strike="noStrike">
                <a:solidFill>
                  <a:srgbClr val="003366"/>
                </a:solidFill>
                <a:latin typeface="Browallia New"/>
                <a:ea typeface="Browallia New"/>
              </a:rPr>
              <a:t>4 </a:t>
            </a:r>
            <a:r>
              <a:rPr b="1" lang="th-TH" sz="20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ท่า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1FDE-3598-4507-8D16-6F22AB09A6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6440" y="1341360"/>
            <a:ext cx="838188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4760" indent="-3747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ff"/>
                </a:solidFill>
                <a:latin typeface="Browallia New"/>
                <a:cs typeface="Browallia New"/>
              </a:rPr>
              <a:t>ประสานงานกับหน่วยงานอื่น เพื่อดูแลความมั่นคงทางเศรษฐกิจ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6600"/>
                </a:solidFill>
                <a:latin typeface="Browallia New"/>
                <a:cs typeface="Browallia New"/>
              </a:rPr>
              <a:t>ร่วมกับกระทรวงการคลังและหน่วยงานอื่นที่เกี่ยวข้อง </a:t>
            </a:r>
            <a:br>
              <a:rPr sz="3200"/>
            </a:br>
            <a:r>
              <a:rPr b="1" lang="th-TH" sz="3200" spc="-1" strike="noStrike">
                <a:solidFill>
                  <a:srgbClr val="ff6600"/>
                </a:solidFill>
                <a:latin typeface="Browallia New"/>
                <a:cs typeface="Browallia New"/>
              </a:rPr>
              <a:t>พิจารณานโยบายการคลัง โดยจะผลักดันให้การใช้จ่ายของรัฐ ช่วยให้เกิดการกระจายรายได้ที่เหมาะสม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2001"/>
              </a:spcBef>
              <a:buClr>
                <a:srgbClr val="336699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6699"/>
                </a:solidFill>
                <a:latin typeface="Browallia New"/>
                <a:cs typeface="Browallia New"/>
              </a:rPr>
              <a:t>ให้ความเห็นกับสำนักงานคณะกรรมการเศรษฐกิจและสังคมแห่งชาติ </a:t>
            </a:r>
            <a:r>
              <a:rPr b="1" lang="th-TH" sz="3200" spc="-1" strike="noStrike">
                <a:solidFill>
                  <a:srgbClr val="336699"/>
                </a:solidFill>
                <a:latin typeface="Browallia New"/>
                <a:ea typeface="Browallia New"/>
              </a:rPr>
              <a:t>(</a:t>
            </a:r>
            <a:r>
              <a:rPr b="1" lang="th-TH" sz="3200" spc="-1" strike="noStrike">
                <a:solidFill>
                  <a:srgbClr val="336699"/>
                </a:solidFill>
                <a:latin typeface="Browallia New"/>
                <a:cs typeface="Browallia New"/>
              </a:rPr>
              <a:t>สศช</a:t>
            </a:r>
            <a:r>
              <a:rPr b="1" lang="th-TH" sz="3200" spc="-1" strike="noStrike">
                <a:solidFill>
                  <a:srgbClr val="336699"/>
                </a:solidFill>
                <a:latin typeface="Browallia New"/>
                <a:ea typeface="Browallia New"/>
              </a:rPr>
              <a:t>.) </a:t>
            </a:r>
            <a:r>
              <a:rPr b="1" lang="th-TH" sz="3200" spc="-1" strike="noStrike">
                <a:solidFill>
                  <a:srgbClr val="336699"/>
                </a:solidFill>
                <a:latin typeface="Browallia New"/>
                <a:cs typeface="Browallia New"/>
              </a:rPr>
              <a:t>ในการพิจารณาภาพรวมของการขยายตัว</a:t>
            </a:r>
            <a:br>
              <a:rPr sz="3200"/>
            </a:br>
            <a:r>
              <a:rPr b="1" lang="th-TH" sz="3200" spc="-1" strike="noStrike">
                <a:solidFill>
                  <a:srgbClr val="336699"/>
                </a:solidFill>
                <a:latin typeface="Browallia New"/>
                <a:cs typeface="Browallia New"/>
              </a:rPr>
              <a:t>ทางเศรษฐกิจ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6760"/>
            <a:ext cx="849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บทบาทของ ธปท</a:t>
            </a:r>
            <a:r>
              <a:rPr b="1" lang="th-TH" sz="3200" spc="-1" strike="noStrike">
                <a:solidFill>
                  <a:srgbClr val="003366"/>
                </a:solidFill>
                <a:latin typeface="Browallia New"/>
                <a:ea typeface="Browallia New"/>
              </a:rPr>
              <a:t>. </a:t>
            </a:r>
            <a:r>
              <a:rPr b="1" lang="th-TH" sz="3200" spc="-1" strike="noStrike">
                <a:solidFill>
                  <a:srgbClr val="003366"/>
                </a:solidFill>
                <a:latin typeface="Browallia New"/>
                <a:cs typeface="Browallia New"/>
              </a:rPr>
              <a:t>ในการรักษาเสถียรภาพทางเศรษฐกิจ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0499-A4CC-4386-A17C-A0197E28074F}" type="slidenum">
              <a:t>5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2:56:13Z</dcterms:created>
  <dc:creator>PuntharS</dc:creator>
  <dc:description/>
  <dc:language>en-US</dc:language>
  <cp:lastModifiedBy>iLLuSioN</cp:lastModifiedBy>
  <cp:lastPrinted>2006-05-08T04:26:11Z</cp:lastPrinted>
  <dcterms:modified xsi:type="dcterms:W3CDTF">2008-06-26T06:54:32Z</dcterms:modified>
  <cp:revision>1481</cp:revision>
  <dc:subject/>
  <dc:title>Slide 1</dc:title>
</cp:coreProperties>
</file>