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9EB1-598D-4BCA-B12F-CC71883FB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0161-DE70-4C6C-96C2-FF5C08245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9C52-CB1F-4EE8-88DD-0CAF3877F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BB75-52A0-44F7-B11C-760936C52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63036-625E-4F78-8700-4491F1212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6CD3B-E02B-4ADC-83D2-96D497D17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F7DC1-FFC7-4ADB-8C2D-0524D6969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CCAF9-14C6-4B5A-9526-6848C20C3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E9755-3CAC-452B-8F21-CA8B0878D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B9FF3-8261-4C46-A038-E0C102721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1AE9F-4B4E-4DDC-B16C-A7B518EA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400F-B700-4146-B61A-4CF9668E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5A75A-2CE4-4DCF-8ACD-50CAAE4A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3A9E2-031B-4EFD-BDC8-E25D95E2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5821E-2FE9-48AC-8750-5B41CAB7E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B8E84-0ED5-46D3-B5E4-3B4424A0D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CE870-A471-448F-A371-9CC88B67F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CAA1-DFDD-4652-9B79-3BBC5B16A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FDAE-9A13-4F2B-B8FB-AB3E892EE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D6F5-C936-4182-95F3-DD7A4FD27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6B7A-F165-4F3A-942E-D38CCF9AA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B95C-AF30-46CE-9A69-34F0D41F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56A0-420B-464E-95BD-2659F343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FF3A-907D-491A-8EC0-2DAA6F78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6AD2E-44F8-4741-8167-1D3AD449727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8CBDE-B6DD-4B66-B3AC-122C1617685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360" y="1988640"/>
            <a:ext cx="7772400" cy="18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ff99"/>
                </a:solidFill>
                <a:latin typeface="Angsana New"/>
              </a:rPr>
              <a:t>ภาวะการค้าของเชียงใหม่</a:t>
            </a:r>
            <a:br>
              <a:rPr sz="5400"/>
            </a:br>
            <a:r>
              <a:rPr b="1" lang="hi-IN" sz="5400" spc="-1" strike="noStrike">
                <a:solidFill>
                  <a:srgbClr val="ffff99"/>
                </a:solidFill>
                <a:latin typeface="Angsana New"/>
              </a:rPr>
              <a:t>และการกระตุ้นเศรษฐกิจ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187280" y="4941360"/>
            <a:ext cx="640080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ngsana New"/>
              </a:rPr>
              <a:t>สำนักงานพาณิชย์จังหวัดเชียงใหม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99"/>
                </a:solidFill>
                <a:latin typeface="Arial"/>
              </a:rPr>
              <a:t>ปัจจัยเสี่ยงที่นำไปสู่ภาวะเศรษฐกิจจังหวัดเชียงใหม่ซบเซา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71280" y="1844280"/>
            <a:ext cx="7056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ราคาน้ำมันเชื้อเพลิ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77560" indent="-27756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อัตราเงินเฟ้อ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77560" indent="-27756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ภาวะการขาดความเชื่อมั่น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/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ภาวะการเมือ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77560" indent="-27756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การท่องเที่ยวไม่คึกคัก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/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นักท่องเที่ยวลดล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77560" indent="-27756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ราคาสินค้าเกษตรกรตกต่ำ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/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กระทบต่ออำนาจซื้อ</a:t>
            </a:r>
            <a:br>
              <a:rPr sz="3600"/>
            </a:b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ของประชากรส่วนใหญ่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99"/>
                </a:solidFill>
                <a:latin typeface="Angsana New"/>
              </a:rPr>
              <a:t>อัตราเงินเฟ้อของจังหวัดเชียงใหม่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Verdana"/>
              </a:rPr>
              <a:t>การเปลี่ยนแปลงดัชนีราคาผู้บริโภคของจังหวัดเชียงใหม่เดือนพฤษภาคม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2551 </a:t>
            </a:r>
            <a:r>
              <a:rPr b="1" lang="hi-IN" sz="3200" spc="-1" strike="noStrike">
                <a:solidFill>
                  <a:srgbClr val="ffffff"/>
                </a:solidFill>
                <a:latin typeface="Verdana"/>
              </a:rPr>
              <a:t>เมื่อเทียบกั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lang="en-US" sz="3200" spc="-1" strike="noStrike">
                <a:solidFill>
                  <a:srgbClr val="ffcc00"/>
                </a:solidFill>
                <a:latin typeface="Wingdings"/>
                <a:ea typeface="Wingdings"/>
              </a:rPr>
              <a:t>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hi-IN" sz="3200" spc="-1" strike="noStrike">
                <a:solidFill>
                  <a:srgbClr val="ffffff"/>
                </a:solidFill>
                <a:latin typeface="Verdana"/>
              </a:rPr>
              <a:t>เดือนเมษายน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551     </a:t>
            </a:r>
            <a:r>
              <a:rPr b="0" lang="hi-IN" sz="3200" spc="-1" strike="noStrike">
                <a:solidFill>
                  <a:srgbClr val="ffffff"/>
                </a:solidFill>
                <a:latin typeface="Verdana"/>
              </a:rPr>
              <a:t>สูงขึ้นร้อยละ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.9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lang="en-US" sz="3200" spc="-1" strike="noStrike">
                <a:solidFill>
                  <a:srgbClr val="ffcc00"/>
                </a:solidFill>
                <a:latin typeface="Wingdings"/>
                <a:ea typeface="Wingdings"/>
              </a:rPr>
              <a:t>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hi-IN" sz="3200" spc="-1" strike="noStrike">
                <a:solidFill>
                  <a:srgbClr val="ffffff"/>
                </a:solidFill>
                <a:latin typeface="Verdana"/>
              </a:rPr>
              <a:t>เดือนพฤษภาคม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550   </a:t>
            </a:r>
            <a:r>
              <a:rPr b="0" lang="hi-IN" sz="3200" spc="-1" strike="noStrike">
                <a:solidFill>
                  <a:srgbClr val="ffffff"/>
                </a:solidFill>
                <a:latin typeface="Verdana"/>
              </a:rPr>
              <a:t>สูงขึ้นร้อยละ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7.8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lang="en-US" sz="3200" spc="-1" strike="noStrike">
                <a:solidFill>
                  <a:srgbClr val="ffcc00"/>
                </a:solidFill>
                <a:latin typeface="Wingdings"/>
                <a:ea typeface="Wingdings"/>
              </a:rPr>
              <a:t>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hi-IN" sz="3200" spc="-1" strike="noStrike">
                <a:solidFill>
                  <a:srgbClr val="ffffff"/>
                </a:solidFill>
                <a:latin typeface="Verdana"/>
              </a:rPr>
              <a:t>เฉลี่ยช่วงระยะ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5 </a:t>
            </a:r>
            <a:r>
              <a:rPr b="0" lang="hi-IN" sz="3200" spc="-1" strike="noStrike">
                <a:solidFill>
                  <a:srgbClr val="ffffff"/>
                </a:solidFill>
                <a:latin typeface="Verdana"/>
              </a:rPr>
              <a:t>เดือนแรก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hi-IN" sz="3200" spc="-1" strike="noStrike">
                <a:solidFill>
                  <a:srgbClr val="ffffff"/>
                </a:solidFill>
                <a:latin typeface="Verdana"/>
              </a:rPr>
              <a:t>มกราคม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hi-IN" sz="3200" spc="-1" strike="noStrike">
                <a:solidFill>
                  <a:srgbClr val="ffffff"/>
                </a:solidFill>
                <a:latin typeface="Verdana"/>
              </a:rPr>
              <a:t>พฤษภาคม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0" lang="hi-IN" sz="3200" spc="-1" strike="noStrike">
                <a:solidFill>
                  <a:srgbClr val="ffffff"/>
                </a:solidFill>
                <a:latin typeface="Verdana"/>
              </a:rPr>
              <a:t>ปี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550  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hi-IN" sz="3200" spc="-1" strike="noStrike">
                <a:solidFill>
                  <a:srgbClr val="ffffff"/>
                </a:solidFill>
                <a:latin typeface="Verdana"/>
              </a:rPr>
              <a:t>สูงขึ้นร้อยละ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5.9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1835280" y="765000"/>
          <a:ext cx="4608360" cy="18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765000"/>
                    <a:ext cx="4608360" cy="18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179280" y="3141720"/>
          <a:ext cx="4108680" cy="2016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3141720"/>
                    <a:ext cx="4108680" cy="20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2268360" y="404640"/>
            <a:ext cx="4032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Verdana"/>
              </a:rPr>
              <a:t>เทียบเดือนก่อนหน้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4000" y="2781360"/>
            <a:ext cx="388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Verdana"/>
              </a:rPr>
              <a:t>เทียบเดือนเดียวกันปีก่อ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4427640" y="4005360"/>
          <a:ext cx="4537080" cy="19447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27640" y="4005360"/>
                    <a:ext cx="453708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4859280" y="3645000"/>
            <a:ext cx="38163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Verdana"/>
              </a:rPr>
              <a:t>เทียบระยะเดียวกันปีก่อ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99"/>
                </a:solidFill>
                <a:latin typeface="Angsana New"/>
              </a:rPr>
              <a:t>ภาวะการค้าของจังหวัดเชียงใหม่ ตกต่ำลงจริงหรือ </a:t>
            </a:r>
            <a:r>
              <a:rPr b="1" lang="en-US" sz="4400" spc="-1" strike="noStrike">
                <a:solidFill>
                  <a:srgbClr val="ffff99"/>
                </a:solidFill>
                <a:latin typeface="Angsana New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สมมุติฐานวัดจากยอดขายที่ผู้ประกอบการสำแดงต่อสรรพากรพื้นที่จังหวัดเชียงใหม่เพื่อจัดเก็บภาษี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VA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611280" y="270828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</a:rPr>
              <a:t>ปีงบประมาณ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2550 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</a:rPr>
              <a:t>ยอดขายรวม 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141,500.41 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</a:rPr>
              <a:t>ล้านบาท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      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</a:rPr>
              <a:t>เพิ่มจากปีงบประมาณ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2549 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</a:rPr>
              <a:t>ร้อยละ 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29.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9640" y="4149720"/>
            <a:ext cx="822960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ในช่วง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6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เดือนแรก ปี งปม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. 2550 (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ต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.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ค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-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มี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.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ค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.)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เพิ่มขึ้นจาก</a:t>
            </a:r>
            <a:br>
              <a:rPr sz="3600"/>
            </a:b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ช่วงเดียวกันของปี งปม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. 49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ร้อยละ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42.75 (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มูลค่า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72,206.13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 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ขณะที่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6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เดือนแรก ปี งปม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. 2551 (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ต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.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ค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.-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มี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.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ค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.)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เพิ่มขึ้นจากช่วงเดียวกันของปี งปม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. 50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เพียงร้อยละ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6.48 (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มูลค่า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76,883.24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99"/>
                </a:solidFill>
                <a:latin typeface="Angsana New"/>
              </a:rPr>
              <a:t>ต้องทำอะไร </a:t>
            </a:r>
            <a:r>
              <a:rPr b="1" lang="en-US" sz="4400" spc="-1" strike="noStrike">
                <a:solidFill>
                  <a:srgbClr val="ffff99"/>
                </a:solidFill>
                <a:latin typeface="Angsana New"/>
              </a:rPr>
              <a:t>/ </a:t>
            </a:r>
            <a:r>
              <a:rPr b="1" lang="hi-IN" sz="4400" spc="-1" strike="noStrike">
                <a:solidFill>
                  <a:srgbClr val="ffff99"/>
                </a:solidFill>
                <a:latin typeface="Angsana New"/>
              </a:rPr>
              <a:t>อย่างไร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ngsana New"/>
              </a:rPr>
              <a:t>ดำเนินการจัดการกระตุ้นการท่องเที่ยวในภาพรวม และกระตุ้นเศรษฐกิจ เพื่อให้ประชากรส่วนใหญ่ของจังหวัดมีรายได้ เพิ่มอำนาจซื้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539640" y="2852640"/>
            <a:ext cx="82296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จังหวัดเชียงใหม่ได้เสนอของบประมาณ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200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ล้านบาท  เพื่อการจัดงาน ราชพฤกษ์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GMS Expo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เดือน ธ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.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ค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. 51-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ก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.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พ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. 5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4360" y="4292640"/>
            <a:ext cx="82296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ngsana New"/>
              </a:rPr>
              <a:t>รักษาเสถียรภาพราคาสินค้าเกษตร จังหวัดควบคุมไม่ได้ เพราะขึ้นอยู่กับนโยบายและมาตรการของส่วนกลา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24000" y="22050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9600" spc="-1" strike="noStrike">
                <a:solidFill>
                  <a:srgbClr val="ffffff"/>
                </a:solidFill>
                <a:latin typeface="Verdana"/>
              </a:rPr>
              <a:t>ขอบคุณมากครับ</a:t>
            </a:r>
            <a:endParaRPr b="0" lang="en-US" sz="9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4T14:15:32Z</dcterms:created>
  <dc:creator>ComIndy SP3.</dc:creator>
  <dc:description/>
  <dc:language>en-US</dc:language>
  <cp:lastModifiedBy>iLLuSioN</cp:lastModifiedBy>
  <dcterms:modified xsi:type="dcterms:W3CDTF">2008-06-25T02:08:54Z</dcterms:modified>
  <cp:revision>16</cp:revision>
  <dc:subject/>
  <dc:title>ภาวะการค้าของเชียงใหม่ และการกระตุ้นเศรษฐกิจ</dc:title>
</cp:coreProperties>
</file>