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8C7C-DA8D-46D6-B567-A0FAB723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D181-8903-4092-8A23-F33D20A2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B22-A4D1-4096-8163-6125C346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DB89-2E4A-4AC0-ACB3-D3196DBD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A93A3-5FC0-46FF-A7B2-CA65B52B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12008-1D22-478F-AE6C-19E1B8B1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EE0D6-23BC-4972-8EA3-B75B68A7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A4EE2-5A02-47BF-B230-86908B64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4F668-4ED6-44FF-9B01-02C52144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C665B-8C7C-4C6A-A76B-583DEEE5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B65E6-914C-46F4-B159-BF804797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DB2-CD5F-4844-A055-8AFD466B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EA3F4-576B-4A75-A519-F2BE8792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EB1D4-F64C-45D1-9C26-4A80B400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D10D9-2D18-4F0B-AE16-198A47B6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F7D69-7B7E-47A1-AD2A-F7E4F548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520C7-EA0E-4BD1-8600-4BAA5B29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CFFF-B5FC-4DE9-9D0A-72758C56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790-1DEA-41D2-9D16-DA88DF4F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E21-F9E8-4691-98C1-524592DD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4B2-74BD-48B8-A5F9-B833A0CF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935-83E4-4CDB-B87B-5AA15AAE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CF8B-8A59-4146-A94D-41D6AB72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98E5-21F3-4582-844A-4A59EC43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197D-5A95-441D-AF4E-99157559B9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458A-2A11-4757-832B-CE30FB5377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พระราชพิธีเฉลิมพระชนมพรรษา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สมเด็จพระบรมโอรสาธิราช เจ้าฟ้ามหาวชิราลงกรณ  สยามมกุฎราชกุมาร </a:t>
            </a:r>
            <a:br>
              <a:rPr sz="3200"/>
            </a:b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วันที่ </a:t>
            </a: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28 </a:t>
            </a: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กรกฎาคม </a:t>
            </a:r>
            <a:r>
              <a:rPr b="1" lang="th-TH" sz="3200" spc="-1" strike="noStrike">
                <a:solidFill>
                  <a:srgbClr val="e3e3ff"/>
                </a:solidFill>
                <a:latin typeface="Arial"/>
              </a:rPr>
              <a:t>2551</a:t>
            </a:r>
            <a:br>
              <a:rPr sz="40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539720"/>
            <a:ext cx="9612360" cy="69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 u="sng">
                <a:solidFill>
                  <a:srgbClr val="e3e3ff"/>
                </a:solidFill>
                <a:uFillTx/>
                <a:latin typeface="Arial"/>
              </a:rPr>
              <a:t>กำหนดการ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ประธานพิธีกล่าวถวายราชสดุดีเฉลิมพระเกียรติ ในวันที่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28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กรกฎาคม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255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พร้อมเวลา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08.30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น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เริ่มพิธี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09.00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น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ณ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หอประชุมมหาวิทยาลัยเชียงใหม่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 u="sng">
                <a:solidFill>
                  <a:srgbClr val="ffffff"/>
                </a:solidFill>
                <a:uFillTx/>
                <a:latin typeface="Arial"/>
              </a:rPr>
              <a:t>การแต่งกาย</a:t>
            </a:r>
            <a:r>
              <a:rPr b="1" lang="th-TH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ข้าราชการพลเรือน  </a:t>
            </a: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เครื่องแบบปกติขาว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ข้าราชการทหาร  ตำรวจ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เครื่องแบบปกติขาว  คาดกระบี่  ถุงมือ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บุคคลทั่วไป</a:t>
            </a: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สุภาพบุรุษ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ชุดสากลนิยม ชุดไทย ชุดพระราชทาน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หรือเครื่องแบบตามสังกั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สุภาพสตรี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ชุดพื้นเมืองห่มสไบ หรือเครื่องแบบตามสังกั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21:17:59Z</dcterms:created>
  <dc:creator>personal</dc:creator>
  <dc:description/>
  <dc:language>en-US</dc:language>
  <cp:lastModifiedBy>WincoolV5</cp:lastModifiedBy>
  <dcterms:modified xsi:type="dcterms:W3CDTF">2008-06-23T04:47:24Z</dcterms:modified>
  <cp:revision>24</cp:revision>
  <dc:subject/>
  <dc:title>งานพิธีจังหวัดเชียงใหม่</dc:title>
</cp:coreProperties>
</file>